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40F-A150-49F8-8EE5-426A71DD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D42F-3CB9-400A-AF73-A95401B8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618-276C-495D-A7EE-CC970BFD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6E0-4D42-43D6-838D-F9F8A6B5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1CB-1808-4471-B564-ABA9FE2A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282-5B3E-444C-917A-39CE397D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676-12BC-47E2-A869-2A9A3350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B3F-3820-496F-8C21-E3A03FBC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CCB-A138-4E9F-87F4-D8E6322B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5D2-6B0B-4132-BDB3-DB204BB3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FC1-16D7-41E3-8106-1B755247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9A7-2A40-45A4-8847-521FC4F5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A724-F305-4A75-A23D-B2DC3ED8D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2296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SECT THE CHAPTER USING 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LLOWING HEAD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CIDE WHICH OF YOUR DISSECTIONS NEED FURTHER INVES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NTIFY AS MANY OF THE PLACES MENTIONED IN THE BIOGRAPHY AS YOU CAN FIND ON YOUR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KETCH THE MAP INTO YOUR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ANK THE PEOPLE IN THE CHAPTER IN ORDER OF 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PREPARED TO JUSTIFY YOU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CRITERIA CAN YOU ESTABLISH TO DETERMINE RAN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S MANA A GOOD WAY TO DETERMINE RAN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LECT AN ACTION TAKEN BY SOME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WAS T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U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EQU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V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LECT ONE EVENT FROM THE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 A CCCCC O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TEXT, CAUSES, COURSE, CONSEQUENCE,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NECTIONS is for those who want to have Scholarship as their goal and for everyone for 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E NEXT SLIDES FOR EXPLANATION IF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 - This is the setting, date, time period,  place,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- These are the reasons why things happen can be events or ideas, can be long term or short te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- this is what happens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QUENCES - These are the results - again, can be long term or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STORY IS WRITTEN FROM A POINT OF VIEW THAT IS CULTURE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STORIANS WRITING ABOUT OTHER CULTURES SOMETIMES SLIP UP AND MAKE JUDGEMENTS FROM THEIR OWN CULTURAL 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N YOU THINK OF EXAMPLES FROM YOUR OWN EXPERI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N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AKE AN IDEA FROM YOUR DISECTION OF ANY TEXT, VISUAL, VIDEO OR WEBSITE AND PUT IT IN THE CENTRE OF YOUR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E HOW MANY CONNECTIONS YOU CAN MAKE TO OTHER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ABLE TO DO THIS ORALLY AS WELL AS IN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 THIS ACTIVITY AGAIN USING ANOTHER IDEA FROM THE SAME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CISIONS AND SIT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CAN CCCCCC apply to a deci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CAN CCCCCC apply to a situ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John Pipe</cp:lastModifiedBy>
  <cp:lastPrinted>2009-03-04T07:58:26Z</cp:lastPrinted>
  <dcterms:modified xsi:type="dcterms:W3CDTF">2009-03-04T08:50:48Z</dcterms:modified>
  <cp:revision>9</cp:revision>
  <dc:subject/>
  <dc:title>PowerPoint Presentation</dc:title>
</cp:coreProperties>
</file>