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FF0-DDE8-4BD7-A8A5-7734B42A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B853-45FF-48C8-A4EA-D7A14391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86B4-3E41-4507-A708-6560F884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8E62-7232-48FE-8561-B0BF6EDC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0D6-B98D-42C8-ADCA-639470E3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33B1-D3B8-445F-8F31-1ED4732A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1B97-F42B-4603-9A1F-69F14ED6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F64-8445-4E19-BB2C-0EC8A477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327-6E40-436A-BEBD-333AD81E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D4E-55FF-4610-9AD5-B58C46BE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BBEF-4599-4248-899D-D3537730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15D-BABC-4EF8-B7A1-860D64A1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ED45-9CE5-4337-930E-8A923CBFD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82296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SECT THE CHAPTER USING 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LLOWING HEAD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CIDE WHICH OF YOUR DISSECTIONS NEED FURTHER INVES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DENTIFY AS MANY OF THE PLACES MENTIONED IN THE BIOGRAPHY AS YOU CAN FIND ON YOUR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KETCH THE MAP INTO YOUR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ANK THE PEOPLE IN THE CHAPTER IN ORDER OF IMPOR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 PREPARED TO JUSTIFY YOUR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CRITERIA CAN YOU ESTABLISH TO DETERMINE RAN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S MANA A GOOD WAY TO DETERMINE RAN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LECT AN ACTION TAKEN BY SOME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WAS TH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EX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U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EQU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V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LECT ONE EVENT FROM THE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O A CCCCC O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TEXT, CAUSES, COURSE, CONSEQUENCE,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NECTIONS is for those who want to have Scholarship as their goal and for everyone for 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E NEXT SLIDES FOR EXPLANATION IF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XT - This is the setting, date, time period,  place,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S - These are the reasons why things happen can be events or ideas, can be long term or short te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- this is what happens in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EQUENCES - These are the results - again, can be long term or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STORY IS WRITTEN FROM A POINT OF VIEW THAT IS CULTURE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STORIANS WRITING ABOUT OTHER CULTURES SOMETIMES SLIP UP AND MAKE JUDGEMENTS FROM THEIR OWN CULTURAL VIEW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N YOU THINK OF EXAMPLES FROM YOUR OWN EXPERI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N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AKE AN IDEA FROM YOUR DISECTION OF ANY TEXT, VISUAL, VIDEO OR WEBSITE AND PUT IT IN THE CENTRE OF YOUR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E HOW MANY CONNECTIONS YOU CAN MAKE TO OTHER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 ABLE TO DO THIS ORALLY AS WELL AS IN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O THIS ACTIVITY AGAIN USING ANOTHER IDEA FROM THE SAME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CISIONS AND SIT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CAN CCCCCC apply to a deci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CAN CCCCCC apply to a situ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John Pipe</cp:lastModifiedBy>
  <cp:lastPrinted>2009-03-04T07:58:26Z</cp:lastPrinted>
  <dcterms:modified xsi:type="dcterms:W3CDTF">2009-03-04T08:50:48Z</dcterms:modified>
  <cp:revision>9</cp:revision>
  <dc:subject/>
  <dc:title>PowerPoint Presentation</dc:title>
</cp:coreProperties>
</file>