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6B47-A852-404F-9BA4-4FC4E291A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BC83-BF64-495C-ADC4-3B42BE3A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0337-BD27-47E6-A7EA-88E6CCBD2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58DA-04E2-4A1C-BEAC-C6FDD985B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588C-57FF-443C-8308-B145AE956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FBC4-676B-4649-8562-4D087C87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AFAE-C70E-4859-8AED-B21EA42F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CB2-9F7D-4B94-9D2B-6B14176C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3D7D-3FF8-4475-8A99-895E2621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35E-8746-45D2-9358-11506714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823-7091-4256-B6DE-4763FFCA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1861-E290-426B-A0D2-813D7E9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9D45E-D66E-4159-862C-79654DF337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 THE CHAPTER US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LLOWING H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IDE WHICH OF YOUR DISSECTIONS NEED FURTH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NTIFY AS MANY OF THE PLACES MENTIONED IN THE BIOGRAPHY AS YOU CAN FIND ON YOU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TCH THE MAP INTO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K THE PEOPLE IN THE CHAPTER IN ORDER OF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PREPARED TO JUSTIFY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RITERIA CAN YOU ESTABLISH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 MANA A GOOD WAY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LECT AN ACTION TAKEN BY 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WA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LECT ONE EVENT FROM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A CCCCC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, CAUSES, COURSE, CONSEQUENCE,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ONS is for those who want to have Scholarship as their goal and for everyone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NEXT SLIDES FOR EXPLANATION I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- This is the setting, date, time period,  place,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- These are the reasons why things happen can be events or ideas, can be long term or 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- this is what happens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- These are the results - again, can be long term or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Y IS WRITTEN FROM A POINT OF VIEW THAT IS 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IANS WRITING ABOUT OTHER CULTURES SOMETIMES SLIP UP AND MAKE JUDGEMENTS FROM THEIR OWN CULTURAL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THINK OF EXAMPLES FROM YOUR OWN EXPER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KE AN IDEA FROM YOUR DISECTION OF ANY TEXT, VISUAL, VIDEO OR WEBSITE AND PUT IT IN THE CENTRE OF YOU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HOW MANY CONNECTIONS YOU CAN MAKE TO OTHE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ABLE TO DO THIS ORALLY AS WELL AS IN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THIS ACTIVITY AGAIN USING ANOTHER IDEA FROM THE SAM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S AND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si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Pipe</cp:lastModifiedBy>
  <cp:lastPrinted>2009-03-04T07:58:26Z</cp:lastPrinted>
  <dcterms:modified xsi:type="dcterms:W3CDTF">2009-03-04T08:50:48Z</dcterms:modified>
  <cp:revision>9</cp:revision>
  <dc:subject/>
  <dc:title>PowerPoint Presentation</dc:title>
</cp:coreProperties>
</file>