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B4EAE-3164-4EA9-9314-59C3B22E3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0F0F9-A1D2-4773-B876-052CA356D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2975E-3EDC-4CAC-A15E-71EF129F0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194FC-8FE5-4531-8FF5-EF5F30AD8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49F16-9DEB-45C1-8ADE-F80FC586C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10A81-AADE-47A6-A960-889A17018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675A4-9E5E-477D-BD64-3EEBF6720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9F633-37A7-4C36-829D-75D65EA6C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9A8E4-17B6-4DF2-BFB4-F38A28630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EFD38-5042-4905-B795-D11682D6B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6E956-E92E-469D-8602-C3B8E5E0F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2CD41-0BF2-4C85-B9B1-683A6C7EC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ECC03-B44B-4A8B-BE2B-E301DE7D21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457200"/>
            <a:ext cx="8229600" cy="61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ISS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ISSECT THE CHAPTER USING THE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FOLLOWING HEADING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EO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LA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EV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DE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ECIDE WHICH OF YOUR DISSECTIONS NEED FURTHER INVESTIG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LAC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DENTIFY AS MANY OF THE PLACES MENTIONED IN THE BIOGRAPHY AS YOU CAN FIND ON YOUR 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SKETCH THE MAP INTO YOUR NO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EOP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RANK THE PEOPLE IN THE CHAPTER IN ORDER OF IMPORT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BE PREPARED TO JUSTIFY YOUR CHO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WHAT CRITERIA CAN YOU ESTABLISH TO DETERMINE RANK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S MANA A GOOD WAY TO DETERMINE RANK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C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LECT AN ACTION TAKEN BY SOME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WHAT WAS TH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ONTEX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AUS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ONSEQUENC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V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SELECT ONE EVENT FROM THE CHAP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O A CCCCC ON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TEXT, CAUSES, COURSE, CONSEQUENCE, CUL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NECTIONS is for those who want to have Scholarship as their goal and for everyone for revi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SEE NEXT SLIDES FOR EXPLANATION IF NEED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533520" y="380520"/>
            <a:ext cx="76960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TEXT - This is the setting, date, time period,  place, parame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USES - These are the reasons why things happen can be events or ideas, can be long term or short term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URSE - this is what happens in the ev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SEQUENCES - These are the results - again, can be long term or short te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ULTU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ISTORY IS WRITTEN FROM A POINT OF VIEW THAT IS CULTURE BOU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ISTORIANS WRITING ABOUT OTHER CULTURES SOMETIMES SLIP UP AND MAKE JUDGEMENTS FROM THEIR OWN CULTURAL VIEWPOI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AN YOU THINK OF EXAMPLES FROM YOUR OWN EXPERIENC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ONNEC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AKE AN IDEA FROM YOUR DISECTION OF ANY TEXT, VISUAL, VIDEO OR WEBSITE AND PUT IT IN THE CENTRE OF YOUR P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SEE HOW MANY CONNECTIONS YOU CAN MAKE TO OTHER IDE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BE ABLE TO DO THIS ORALLY AS WELL AS IN WRI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O THIS ACTIVITY AGAIN USING ANOTHER IDEA FROM THE SAME CHAP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DECISIONS AND SITU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 Black"/>
              </a:rPr>
              <a:t>CAN CCCCCC apply to a decisio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 Black"/>
              </a:rPr>
              <a:t>CAN CCCCCC apply to a situatio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9:24:48Z</dcterms:created>
  <dc:creator/>
  <dc:description/>
  <dc:language>en-US</dc:language>
  <cp:lastModifiedBy>John Pipe</cp:lastModifiedBy>
  <cp:lastPrinted>2009-03-04T07:58:26Z</cp:lastPrinted>
  <dcterms:modified xsi:type="dcterms:W3CDTF">2009-03-04T08:50:48Z</dcterms:modified>
  <cp:revision>9</cp:revision>
  <dc:subject/>
  <dc:title>PowerPoint Presentation</dc:title>
</cp:coreProperties>
</file>