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1A93-A946-4BF5-9E9B-9650B5E0D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026D2-8F3D-47EE-9DEE-54BE376D6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496C-5199-4A62-8006-F7F65B136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0724C-1DB1-4F00-9BF3-E18C05135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4C0CE-1A5A-448D-8224-6902B271A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3A7A-8AD9-4A09-AEDB-C2741A51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17BC-9510-4904-9460-5BD0179F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C210-9A6C-4B37-A974-073E47494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3EC99-8F83-4ECC-92E7-E86F6942A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58B40-9D84-4972-B359-ABD9D598C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ABE8-F029-49D9-B50B-DDDB95C1B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3833-EC28-4EE6-9F5D-5F4D6263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B0931-D307-4978-8C9F-133DD3AF5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90A0-ACCB-418C-A74B-42C5E470B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7"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7620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609480"/>
            <a:ext cx="8305920" cy="402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11-03-13T03:02:29Z</cp:lastPrinted>
  <dcterms:modified xsi:type="dcterms:W3CDTF">2011-03-13T03:12:28Z</dcterms:modified>
  <cp:revision>11</cp:revision>
  <dc:subject/>
  <dc:title>PowerPoint Presentation</dc:title>
</cp:coreProperties>
</file>