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6565B-627A-4193-B872-C0E4083F86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F77A0-485B-476B-9A67-7F3610A2C4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63376-F975-4D09-8A8B-17832764C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B1AFE2-9FA8-4454-B68B-481993236A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129C5-3C92-4B01-BEAA-91073DBAB4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8F2F8E-9B25-48F8-9E8F-4AED382692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7718E-1E41-4891-B02B-38D0BD0C08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D3F8D5-BB1F-4919-8ACF-18C333C9B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37ED-DC30-4491-B71C-D16A6D119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25CED-954B-4409-B8D2-43889DE57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F3F3F-171F-4C36-9001-B7DE976A5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E8541-6CD6-492B-8EE2-B761995C0D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851C3-8336-4A0D-933B-BDB84DE6F8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AC181-3B73-442F-928B-2322725626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7"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7620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609480"/>
            <a:ext cx="8305920" cy="402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11-03-13T03:02:29Z</cp:lastPrinted>
  <dcterms:modified xsi:type="dcterms:W3CDTF">2011-03-13T03:12:28Z</dcterms:modified>
  <cp:revision>11</cp:revision>
  <dc:subject/>
  <dc:title>PowerPoint Presentation</dc:title>
</cp:coreProperties>
</file>