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E65D8-93BB-47C5-B0B8-90CC61667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4EAA-D9BD-4991-AB2E-94A2BF314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B81DA-ED84-4F45-BAC0-28497164C8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FED32-8BE4-4B01-A9AF-6167ABD61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5057E-8512-48B3-B76D-292FED10A68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4C11D-C8D4-468B-A0FB-515A1D1F5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A2EF-35B7-4105-9E0D-12B6838E71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4E130-1CFE-413C-BA52-26EB2E9EB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42FF-D543-4177-BB97-BE5B1177D8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3674E-95C7-4F07-BBF9-82BB66BAA2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E548-FD0F-4922-8BBC-EDC993854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8C2F9-C441-4616-AEE0-C74D4B1B4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654EF-1ED0-41BD-85C7-BBE511BA5C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4528-725A-4216-AC36-9D7F6F8919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arching the net generally</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D0260-E165-4F9C-A0F4-3610842A9E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C03CB0-6A59-4B51-AA34-26091B4D02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8D26D-8780-4DAC-A516-05B6E4C04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3051F9-EB72-456F-95A8-8C7AC38F21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2D004C-D690-4427-84BA-CFAD9C783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445E6-F19E-4498-9006-126CB52B3C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93E26D-7052-4993-9ECD-2EF11B87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C76E5-151C-4C42-ABB2-6E1383B623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C6449-41D3-42A4-9F3E-5A85098B2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68370-600E-43AB-86F1-D61E0043F9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2F35C-76AE-4EFB-82A3-21D764D025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F3B1B-4D6D-423C-A598-78F33DB7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E0289-55A7-4473-8CF2-EFBDC95C22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DE9B3-7F60-45A2-9B26-8B7539A5D5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Text Box 5"/>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70" name="Picture 1028" descr="Screen shot 2011-03-13 at 3"/>
          <p:cNvPicPr/>
          <p:nvPr/>
        </p:nvPicPr>
        <p:blipFill>
          <a:blip r:embed="rId1"/>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60"/>
            <a:ext cx="7620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72" name="Picture 1028" descr="Screen shot 2011-03-13 at 3"/>
          <p:cNvPicPr/>
          <p:nvPr/>
        </p:nvPicPr>
        <p:blipFill>
          <a:blip r:embed="rId1"/>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609480"/>
            <a:ext cx="8305920" cy="4103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8153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75"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IGNIFICANT AND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previous years will be available for you to look at when in the Library</a:t>
            </a:r>
            <a:endParaRPr b="0" lang="en-US" sz="2800" spc="-1" strike="noStrike">
              <a:solidFill>
                <a:srgbClr val="000000"/>
              </a:solidFill>
              <a:latin typeface="Times New Roman"/>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9185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ea typeface="Apple Casual"/>
              </a:rPr>
              <a:t>Examples of significant and discerning question stems</a:t>
            </a:r>
            <a:endParaRPr b="0" lang="en-US" sz="2400" spc="-1" strike="noStrike">
              <a:solidFill>
                <a:srgbClr val="000000"/>
              </a:solidFill>
              <a:latin typeface="Times New Roman"/>
            </a:endParaRPr>
          </a:p>
        </p:txBody>
      </p:sp>
      <p:sp>
        <p:nvSpPr>
          <p:cNvPr id="57" name=""/>
          <p:cNvSpPr txBox="1"/>
          <p:nvPr/>
        </p:nvSpPr>
        <p:spPr>
          <a:xfrm>
            <a:off x="610920" y="907560"/>
            <a:ext cx="7846920" cy="518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re an imperative to u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it leadership that was the critical factor in …?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  evidence of the military pepa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How have historians’ views contrasted over the …  and th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9" name="PlaceHolder 2"/>
          <p:cNvSpPr>
            <a:spLocks noGrp="1"/>
          </p:cNvSpPr>
          <p:nvPr>
            <p:ph/>
          </p:nvPr>
        </p:nvSpPr>
        <p:spPr>
          <a:xfrm>
            <a:off x="76320" y="990720"/>
            <a:ext cx="9067680" cy="6324480"/>
          </a:xfrm>
          <a:prstGeom prst="rect">
            <a:avLst/>
          </a:prstGeom>
          <a:noFill/>
          <a:ln w="0">
            <a:noFill/>
          </a:ln>
        </p:spPr>
        <p:txBody>
          <a:bodyPr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360" y="-360"/>
            <a:ext cx="900108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mags13history.wikispaces.com/DI.+THE+INTERNAL+ASSESSMENT+</a:t>
            </a: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pic>
        <p:nvPicPr>
          <p:cNvPr id="61" name="Picture 3" descr="Screen shot 2012-03-18 at 10.58.25 PM.png"/>
          <p:cNvPicPr/>
          <p:nvPr/>
        </p:nvPicPr>
        <p:blipFill>
          <a:blip r:embed="rId1"/>
          <a:stretch/>
        </p:blipFill>
        <p:spPr>
          <a:xfrm>
            <a:off x="0" y="743040"/>
            <a:ext cx="9144000" cy="6092640"/>
          </a:xfrm>
          <a:prstGeom prst="rect">
            <a:avLst/>
          </a:prstGeom>
          <a:ln w="0">
            <a:noFill/>
          </a:ln>
        </p:spPr>
      </p:pic>
      <p:sp>
        <p:nvSpPr>
          <p:cNvPr id="62" name="TextBox 4"/>
          <p:cNvSpPr/>
          <p:nvPr/>
        </p:nvSpPr>
        <p:spPr>
          <a:xfrm>
            <a:off x="6012000" y="3645000"/>
            <a:ext cx="288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ge is useful for getting you thinking about the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88640"/>
            <a:ext cx="8062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ttp://mags13history.wikispaces.com/E.+SEARCHING+THE+NET</a:t>
            </a:r>
            <a:endParaRPr b="0" lang="en-US" sz="1800" spc="-1" strike="noStrike">
              <a:solidFill>
                <a:srgbClr val="000000"/>
              </a:solidFill>
              <a:latin typeface="Times New Roman"/>
            </a:endParaRPr>
          </a:p>
        </p:txBody>
      </p:sp>
      <p:pic>
        <p:nvPicPr>
          <p:cNvPr id="64" name="Picture 3" descr="Screen shot 2012-03-18 at 11.01.48 PM.png"/>
          <p:cNvPicPr/>
          <p:nvPr/>
        </p:nvPicPr>
        <p:blipFill>
          <a:blip r:embed="rId1"/>
          <a:stretch/>
        </p:blipFill>
        <p:spPr>
          <a:xfrm>
            <a:off x="179280" y="836640"/>
            <a:ext cx="8713800" cy="5832360"/>
          </a:xfrm>
          <a:prstGeom prst="rect">
            <a:avLst/>
          </a:prstGeom>
          <a:ln w="0">
            <a:noFill/>
          </a:ln>
        </p:spPr>
      </p:pic>
      <p:sp>
        <p:nvSpPr>
          <p:cNvPr id="65" name="TextBox 4"/>
          <p:cNvSpPr/>
          <p:nvPr/>
        </p:nvSpPr>
        <p:spPr>
          <a:xfrm>
            <a:off x="5292720" y="1628640"/>
            <a:ext cx="33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ge gives you guidance for searching the net for NZ 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Screen shot 2012-03-18 at 11.04.08 PM.png"/>
          <p:cNvPicPr/>
          <p:nvPr/>
        </p:nvPicPr>
        <p:blipFill>
          <a:blip r:embed="rId1"/>
          <a:stretch/>
        </p:blipFill>
        <p:spPr>
          <a:xfrm>
            <a:off x="108000" y="115920"/>
            <a:ext cx="5759280" cy="4986360"/>
          </a:xfrm>
          <a:prstGeom prst="rect">
            <a:avLst/>
          </a:prstGeom>
          <a:ln w="0">
            <a:noFill/>
          </a:ln>
        </p:spPr>
      </p:pic>
      <p:pic>
        <p:nvPicPr>
          <p:cNvPr id="67" name="Picture 4" descr="Screen shot 2012-03-18 at 11.04.56 PM.png"/>
          <p:cNvPicPr/>
          <p:nvPr/>
        </p:nvPicPr>
        <p:blipFill>
          <a:blip r:embed="rId2"/>
          <a:stretch/>
        </p:blipFill>
        <p:spPr>
          <a:xfrm>
            <a:off x="2843280" y="1413000"/>
            <a:ext cx="5962680" cy="5189400"/>
          </a:xfrm>
          <a:prstGeom prst="rect">
            <a:avLst/>
          </a:prstGeom>
          <a:ln w="0">
            <a:noFill/>
          </a:ln>
        </p:spPr>
      </p:pic>
      <p:sp>
        <p:nvSpPr>
          <p:cNvPr id="68" name="TextBox 5"/>
          <p:cNvSpPr/>
          <p:nvPr/>
        </p:nvSpPr>
        <p:spPr>
          <a:xfrm>
            <a:off x="5867280" y="26028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two pages help to give context to this stu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rosoft Office User</cp:lastModifiedBy>
  <cp:lastPrinted>2011-03-13T03:02:29Z</cp:lastPrinted>
  <dcterms:modified xsi:type="dcterms:W3CDTF">2012-03-18T10:12:28Z</dcterms:modified>
  <cp:revision>15</cp:revision>
  <dc:subject/>
  <dc:title>PowerPoint Presentation</dc:title>
</cp:coreProperties>
</file>