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53F433-676C-48AE-98EB-0C51739A5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9DD9-805F-4DED-B83A-8A2FF2DA8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97F704-B4B8-4E90-B905-8BEB44AC86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6ED59E-BA21-446C-8B42-587EB74BB5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4AEA68-4148-451E-9244-1631F02BC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A4D35-F19F-40FC-A78F-0527160C6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507B1-DF8E-4DE7-88DF-8585ED5C8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E92342-10EB-4C94-B557-2A84200E3A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1BFB33-AC89-40FC-AF6A-0B174CC00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8BAF4-B6CD-4188-85EC-A4FB937AC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E44F9-BE49-4FB6-90A5-E0530DD29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CD51B-BA9F-4AA8-BBA0-BDA52D2631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94A7D-3188-484F-9961-70C11AB62A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2"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for each peri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 Usually your school will give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fine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a:t>
            </a:r>
            <a:r>
              <a:rPr b="1" lang="en-NZ" sz="2400" spc="-1" strike="noStrike">
                <a:solidFill>
                  <a:srgbClr val="ff0066"/>
                </a:solidFill>
                <a:latin typeface="Arial"/>
              </a:rPr>
              <a:t>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0"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609480"/>
            <a:ext cx="830592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date accessed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3-03T22:48:08Z</dcterms:modified>
  <cp:revision>9</cp:revision>
  <dc:subject/>
  <dc:title>PowerPoint Presentation</dc:title>
</cp:coreProperties>
</file>