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49056-42CE-4973-96A9-C33DE2B1F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E763F-4B91-45CD-BFA3-B1341295A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808AE-92BD-4360-AB5A-F5C85FCF9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ACE08-9BA8-43F4-BB37-99935484E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489C2-9EEA-4A8E-8F48-EDC9CEFCE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244AA-14B2-45CB-9737-9C02ED4DD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27985-99FB-4CE5-8685-423CE34BB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FDA69-AAB7-4CB9-93A5-D951DAEA2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69406-F3D7-4C0A-A832-CEE46E21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12A2-B0DF-4A5E-96A2-3A397E15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A11D-9456-4D67-811C-243535BFB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C4259-B974-416C-B8AE-C1BAE9FD7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1BB1-764E-4F3D-AC55-BB173F8FE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2" name=""/>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last year will be available for you to look at when in the Librar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for each perio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 Usually your school will give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46"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fine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a:t>
            </a:r>
            <a:r>
              <a:rPr b="1" lang="en-NZ" sz="2400" spc="-1" strike="noStrike">
                <a:solidFill>
                  <a:srgbClr val="ff0066"/>
                </a:solidFill>
                <a:latin typeface="Arial"/>
              </a:rPr>
              <a:t>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0" name="PlaceHolder 2"/>
          <p:cNvSpPr>
            <a:spLocks noGrp="1"/>
          </p:cNvSpPr>
          <p:nvPr>
            <p:ph/>
          </p:nvPr>
        </p:nvSpPr>
        <p:spPr>
          <a:xfrm>
            <a:off x="76320" y="990720"/>
            <a:ext cx="906768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609480"/>
            <a:ext cx="8305920" cy="298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Details required are author, title, publisher, city of publication, date of publication or URL and date accessed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5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dcterms:modified xsi:type="dcterms:W3CDTF">2010-03-03T22:48:08Z</dcterms:modified>
  <cp:revision>9</cp:revision>
  <dc:subject/>
  <dc:title>PowerPoint Presentation</dc:title>
</cp:coreProperties>
</file>