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DE37-ADC8-44A6-AF86-37A8E9CC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F0846-3AA3-4482-AB9D-A86195A90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4271-92EA-4B3C-A9B3-94C7939D5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221-703A-4429-BA7D-60DD35DC2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4BB3C-3249-4FA2-AECC-4EA13D2F0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5E70D-E483-498D-B715-60267608C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3335-CF90-415E-88A9-495657AE1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7092C-027C-4EA5-860C-4DE09EDC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6222-BC75-4BE3-9D6F-8C0592303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445B9-FC68-49E9-8E8A-0C27318A6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D4E5-7034-45CB-BDF3-12DB7F3B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C08F-9382-436C-A744-A5BB6672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1D76-1B49-43D0-B546-3D1AE675E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9DAE0-FAE3-4469-9478-8B2F7BC0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36965-03DB-4515-BC7B-A83C13976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4AA9D-53BC-4CCF-9989-77D3515C6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A96B9-732F-41FE-8CC3-4E1255281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0A6C-367F-48EE-854C-36FB9D4DB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A52D-CE9E-401A-9E55-D8F5BC96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3BAE-A9C6-403A-9269-BC66DD2E4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F58-C802-4D46-ACEA-9388AB431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88D1-F4A0-4A05-A776-059CB832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EE02-8A88-4F2E-8D22-35F16396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98BB6-AB64-4BB0-9221-C351EDAA2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1CBE0-2971-42DE-B799-2019E9D9F0FD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NZ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9214B-5474-4CE5-9322-C5C38E0FC7F9}" type="slidenum">
              <a:rPr b="0" lang="en-NZ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The Liberals 1890-189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cture 2 of 148.205 Mode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Zealand Poli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ichard John Seddon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an from West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ude effective local politic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715000" y="1749600"/>
            <a:ext cx="3124080" cy="419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Alfred Cadman 1847-1905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Native Affai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715000" y="1833480"/>
            <a:ext cx="3124080" cy="40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ames Carroll 1857-192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f Maori, half Ir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ined ministry in 1892 to represent Maori 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1893 won European s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99 Minister of Native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modernise Ma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715000" y="1711440"/>
            <a:ext cx="3124080" cy="427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Liberal Party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only a party in parlia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national party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hazard choice of candidates with letter of endorsement from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of a liberal federation, incorporating various groups, led by T L Bu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Battle with the Governor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kinson had asked the Governor, Lord Onslow, to appoint 7 members of the Legislative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impossible to pass liberal legi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lance asked for 12-18 members and was ref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nial Office forced agre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pute over appointing H B Edwards to the Supreme Court &amp; Native Land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Land Reform Measur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Tax for absentee owners, 18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partment of Agriculture founded 18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 Farms established 18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for Settlement Act 1892, and purchase of Cheviot 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petual Lease (1882) adapted to a 31 year lease 1891 – fai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2 Land Bill compromised with Lease in perpetuity 999 years with no revaluation - Very popu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Industrial polici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eves formed Bureaus of Industr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our Department created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gan to plan major factory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sought to strengthen trade u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Reeves the first socialist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ded himself on knowledge of soci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he had no class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s a nationalist and rac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 wanted a strong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722680" y="2133720"/>
            <a:ext cx="257652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How significant was Ballance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ffered cancer of colon from September 189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ddon was Acting P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cIvor calls him ‘the rainmake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didn’t achieve much but created a party trad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ruggle gave him st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The December 1890 Election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ost important election in a centu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tic political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 won in the 4 main cities and some of the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clear result but Atkinson resigned 27 January 189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s stayed in power for the next 21 year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Who were the Liberals?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iberal Party in England was formed by Whigs and Radicals and led by Gladst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Laissez Faire tradition emphasising free trade, peace, reform, battling conserv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attle against conservatism was easily won in New Zea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New Zealand Liberal value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Concern to stop runholder do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resented people in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Represented the small busin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nted positive liberalism- reform and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Arial"/>
              </a:rPr>
              <a:t>Wanted protection not fre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hn Ballance 1839-1893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15000" y="1600200"/>
            <a:ext cx="3124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sterman and Birmingham ironmo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e in 1866 to Wanganui, newspaper publis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-provi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thinker, democr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voured self-re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90840" y="1704960"/>
            <a:ext cx="30193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John McKenzie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ttish cro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loud-mouthed bu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lands, immigration &amp; agri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715000" y="1911240"/>
            <a:ext cx="3124080" cy="387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ir Patrick Buckley 1840-1896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rish Cathol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Had been company secretary for a BNZ compa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Attorney General and Colonia Secret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724360" y="1704960"/>
            <a:ext cx="310536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8c0039"/>
                </a:solidFill>
                <a:latin typeface="Arial"/>
              </a:rPr>
              <a:t>William Pember Reeves 1857-1932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hristchurch liberal, with degree, writer, lawy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w self as a Fabi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er of Justice, Education &amp; Lab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748480" y="1600200"/>
            <a:ext cx="3057480" cy="44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Sir Joseph Ward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Catholic draper &amp; freezing work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p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tmaster-Gen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715000" y="1936800"/>
            <a:ext cx="3124080" cy="3821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4T07:36:13Z</dcterms:created>
  <dc:creator>Peter Lineham</dc:creator>
  <dc:description/>
  <dc:language>en-US</dc:language>
  <cp:lastModifiedBy>John Pipe</cp:lastModifiedBy>
  <dcterms:modified xsi:type="dcterms:W3CDTF">2009-10-27T09:48:30Z</dcterms:modified>
  <cp:revision>6</cp:revision>
  <dc:subject/>
  <dc:title>The Liberals 1890-189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