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A3D8-447E-459A-8784-183A9C396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5660-4B35-48C6-A1DC-E2DB0E27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9786-87BD-4C31-9783-9FF50DE33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512-63DE-42D9-9075-9EA5D22A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F4BFD-0F25-4FE1-812E-4513A458B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C5AD0-C621-4C34-A3F9-F1597AD0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FD8B-2C04-49BD-B3A6-283CE974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814B-1CC2-4FA1-9CF6-09A02FD09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134D3-71F6-4B1A-A606-78F0A6A0C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B99BD-030E-4F71-A92C-C708C68F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D690D-634D-4BED-9EB9-7064754B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3E2-E6FE-4DDC-9E23-307A8341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CAA10-48A2-4149-A7A4-08397F6C4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F4AA-E9AF-4B99-BEDA-0377D0E45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4625-BBA0-429B-8C31-E4A71460A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4474B-E8DC-4BFE-8F1B-46DFD306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DC776-1693-4EFB-9ECD-8FF70053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B186-485A-4DE2-8F8A-33E657331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69C3-B4BD-4E5F-A53F-971EF0CC9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E21-94C5-4211-AA13-9DE33558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A29C-272E-47B3-8ADB-18A22907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AED-F871-4C18-8562-50C453D2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3A3B-FF6E-481E-9211-BB728E99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A220-C871-4250-912E-E3F4F79D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2B37-9583-4EC9-AF82-237B84F9979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38AED-80BB-46F3-9513-4FF03616991C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erals 1890-18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 of 148.205 Mod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chard John Sedd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n from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effective local 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749600"/>
            <a:ext cx="31240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fred Cadman 1847-190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Native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833480"/>
            <a:ext cx="31240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ames Carroll 1857-192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ori, half I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ministry in 1892 to represent Maori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3 won European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 Minister of Native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modernise Ma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15000" y="171144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Liberal Pa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only a party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ional par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hazard choice of candidates with letter of endorsement from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f a liberal federation, incorporating various groups, led by T L B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ttle with the Govern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kinson had asked the Governor, Lord Onslow, to appoint 7 members of the Legislativ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mpossible to pass liberal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ance asked for 12-18 members and was re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Office forced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 over appointing H B Edwards to the Supreme Court &amp; Native Land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and Reform Meas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ax for absentee owners, 18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Agriculture found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arms establish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for Settlement Act 1892, and purchase of Cheviot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tual Lease (1882) adapted to a 31 year lease 1891 –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2 Land Bill compromised with Lease in perpetuity 999 years with no revaluation - Very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ustrial 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ves formed Bureaus of Indust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r Department created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plan major factory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ought to strengthen trade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eves the first sociali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d himself on knowledge of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had no cla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nationalist and ra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a stro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22680" y="2133720"/>
            <a:ext cx="2576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significant was Ballan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ed cancer of colon from September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don was Acting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Ivor calls him ‘the rainmak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achieve much but created a party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ggle gave him st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December 1890 Elec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election in a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 political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won in the 4 main cities and some of th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result but Atkinson resigned 27 Janua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stayed in power for the next 21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 were the Liberal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 Party in England was formed by Whigs and Radicals and led by Glad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Laissez Faire tradition emphasising free trade, peace, reform, battling conserv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against conservatism was easily won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Zealand Liberal val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ern to stop runholder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people in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the sm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ositive liberalism- refor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rotection not fre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Ballance 1839-189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sterman and Birmingham ironm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 1866 to Wanganui, newspaper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thinker, dem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ured 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90840" y="1704960"/>
            <a:ext cx="3019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McKenzi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ro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ud-mouthed 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lands, immigration &amp;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911240"/>
            <a:ext cx="3124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Patrick Buckley 1840-189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rish 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d been company secretary for a BNZ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ttorney General and Colonia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7049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c0039"/>
                </a:solidFill>
                <a:latin typeface="Arial"/>
              </a:rPr>
              <a:t>William Pember Reeves 1857-193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hristchurch liberal, with degree, writer, law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 self as 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Justice, Education &amp;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48480" y="160020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Joseph W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atholic draper &amp; freezing work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ster-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15000" y="1936800"/>
            <a:ext cx="3124080" cy="382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7:36:13Z</dcterms:created>
  <dc:creator>Peter Lineham</dc:creator>
  <dc:description/>
  <dc:language>en-US</dc:language>
  <cp:lastModifiedBy>John Pipe</cp:lastModifiedBy>
  <dcterms:modified xsi:type="dcterms:W3CDTF">2009-10-27T09:48:30Z</dcterms:modified>
  <cp:revision>6</cp:revision>
  <dc:subject/>
  <dc:title>The Liberals 1890-189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