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4778-340A-41B3-96A3-2C02B902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6524-6506-4DAC-85B9-92636BC0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3528-50FA-4AE3-902F-428FA585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703E-B495-430F-8128-FA6D5ADE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002C-1B6F-44BB-BD80-5DD69042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05D5-AE79-4B9B-8B98-E2833537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2A9D-CEF5-4DEF-B60C-E4C01653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C907-4066-433F-9715-AD028A57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46A3-16F1-4DD8-ACD9-4804AF6E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0570-F44E-40FE-BE46-585FEE22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6582-8680-4A68-AF0C-E138386F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7FF9-8465-4DB7-B643-98CED7C8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5B4D-FB66-4F11-B76E-B08A3D8D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7FC3-D921-4162-9025-FA9FA6DF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B331-B75D-42EE-88B1-17697544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C11F-1CD3-4414-AD6A-317A09FC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1BCF-C76D-4FF4-BCAB-542AF5B72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59F7-95B5-452C-B3B0-46375E10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F04F-5E4A-4888-9D58-D9D67B8E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CB07-13C4-4753-A3FB-0068BD51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90FF-A89B-4C4B-913C-40E7C5AE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63E0-78FD-4EC7-AFA0-8550A88E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7D8C-A4EC-4A5B-95F0-CC0D0683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315A-AFF1-464C-9234-5E46BC25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FCC1-A467-4B70-844C-12CE6C17E431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8573-5BDC-4443-8223-2087C743981C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Liberals 1890-189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2 of 148.205 Mode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Zealand Poli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Richard John Sedd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an from West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ude effective local politi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715000" y="1749600"/>
            <a:ext cx="3124080" cy="41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lfred Cadman 1847-1905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ster of Native Aff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715000" y="1833480"/>
            <a:ext cx="3124080" cy="40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James Carroll 1857-1926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f Maori, half Ir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ed ministry in 1892 to represent Maori 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93 won European s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99 Minister of Native Aff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modernise Ma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15000" y="1711440"/>
            <a:ext cx="3124080" cy="427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he Liberal Part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only a party in parlia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national party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hazard choice of candidates with letter of endorsement from 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of a liberal federation, incorporating various groups, led by T L Bu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attle with the Governor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kinson had asked the Governor, Lord Onslow, to appoint 7 members of the Legislative Cou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impossible to pass liberal legi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lance asked for 12-18 members and was ref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al Office forced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ute over appointing H B Edwards to the Supreme Court &amp; Native Land Co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Land Reform Measur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Tax for absentee owners, 18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 of Agriculture founded 18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Farms established 18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for Settlement Act 1892, and purchase of Cheviot 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petual Lease (1882) adapted to a 31 year lease 1891 – fa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92 Land Bill compromised with Lease in perpetuity 999 years with no revaluation - Very pop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dustrial polici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eves formed Bureaus of Industry 18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ur Department created 18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to plan major factory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sought to strengthen trade u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Reeves the first socialist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ded himself on knowledge of soci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he had no class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a nationalist and rac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nted a strong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22680" y="2133720"/>
            <a:ext cx="25765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ow significant was Ballance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ered cancer of colon from September 18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ddon was Acting 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Ivor calls him ‘the rainmaker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idn’t achieve much but created a party tra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uggle gave him st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he December 1890 Election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important election in a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matic political deb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berals won in the 4 main cities and some of the tow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lear result but Atkinson resigned 27 January 18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berals stayed in power for the next 21 yea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o were the Liberals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beral Party in England was formed by Whigs and Radicals and led by Glads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a Laissez Faire tradition emphasising free trade, peace, reform, battling conserv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ttle against conservatism was easily won in New Zea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ew Zealand Liberal valu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ncern to stop runholder do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presented people in tow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presented the small busi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anted positive liberalism- reform and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anted protection not free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John Ballance 1839-1893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sterman and Birmingham ironmo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e in 1866 to Wanganui, newspaper publis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-provi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thinker, democr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ured self-re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90840" y="1704960"/>
            <a:ext cx="301932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John McKenzi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tish cro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loud-mouthed b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ster of lands, immigration &amp; agri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15000" y="1911240"/>
            <a:ext cx="3124080" cy="38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ir Patrick Buckley 1840-1896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rish Catho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Had been company secretary for a BNZ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ttorney General and Colonia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24360" y="1704960"/>
            <a:ext cx="310536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8c0039"/>
                </a:solidFill>
                <a:latin typeface="Arial"/>
              </a:rPr>
              <a:t>William Pember Reeves 1857-193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Christchurch liberal, with degree, writer, law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w self as a Fab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ster of Justice, Education &amp; Lab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48480" y="1600200"/>
            <a:ext cx="305748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ir Joseph Ward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Catholic draper &amp; freezing work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master-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715000" y="1936800"/>
            <a:ext cx="3124080" cy="3821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4T07:36:13Z</dcterms:created>
  <dc:creator>Peter Lineham</dc:creator>
  <dc:description/>
  <dc:language>en-US</dc:language>
  <cp:lastModifiedBy>John Pipe</cp:lastModifiedBy>
  <dcterms:modified xsi:type="dcterms:W3CDTF">2009-10-27T09:48:30Z</dcterms:modified>
  <cp:revision>6</cp:revision>
  <dc:subject/>
  <dc:title>The Liberals 1890-189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