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3E7E-1F93-4B58-9B69-75AE064D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6423-572C-422F-BBD6-7863FCA7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D8C7-561C-4D2C-9E91-0A186BBA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7B29-5B8B-4DB7-814A-778733B6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8866-390E-485C-8CD0-392A1FD5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1640-1507-4F11-8A07-84361C26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780A-91D8-4D8D-9110-F0897874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54B9-09B5-4EDE-A1FD-0D13A806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5870-F23F-43DF-A0CC-D5B35371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8D48-30AB-40FA-86F5-E5195345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FAD8-83A1-45F7-9FEA-10E5CCE1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CA11-DFDB-4173-BF11-6338A49A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5CE9-95D2-4217-9E09-22F9F43E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ECDE-510F-41CD-B0E3-D953863D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54CD-292C-4171-B1D6-4DC4DDBC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DF99-A015-4CE1-B067-FEE195B8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4217-6FD0-4957-8C26-28DA627D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E7A0-5EC1-4F26-B8D7-B0F9C559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8489-0375-4931-8BD3-0D5ADC10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D20-014A-432A-8EEC-94214B38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6690-E76A-4C22-8395-A234D121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41E-AAC4-454E-92E1-7132832C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B275-FE19-4A2B-9B61-33042056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5F3D-660C-43C7-861F-AC9443CB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85AB-5BE9-4685-9A2B-56AA24B21CDF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7E31-2213-4538-860B-ED0A2EDDEB4D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Liberals 1890-189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2 of 148.205 Mod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Zealand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ichard John Sedd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an from West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ude effective local polit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15000" y="1749600"/>
            <a:ext cx="3124080" cy="41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lfred Cadman 1847-1905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 of Native Aff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15000" y="1833480"/>
            <a:ext cx="3124080" cy="40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ames Carroll 1857-1926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Maori, half Ir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ed ministry in 1892 to represent Maori 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93 won European s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99 Minister of Native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modernise Ma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15000" y="1711440"/>
            <a:ext cx="3124080" cy="42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 Liberal Part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only a party in 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ational party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hazard choice of candidates with letter of endorsement from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of a liberal federation, incorporating various groups, led by T L Bu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attle with the Governor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kinson had asked the Governor, Lord Onslow, to appoint 7 members of the Legislative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impossible to pass liberal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ance asked for 12-18 members and was ref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al Office forced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ute over appointing H B Edwards to the Supreme Court &amp; Native Land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Land Reform Measur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Tax for absentee owners, 18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Agriculture founded 18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Farms established 18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for Settlement Act 1892, and purchase of Cheviot 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petual Lease (1882) adapted to a 31 year lease 1891 – f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2 Land Bill compromised with Lease in perpetuity 999 years with no revaluation - Very 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dustrial polici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eves formed Bureaus of Industry 18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ur Department created 18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to plan major factory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ought to strengthen trade u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eeves the first socialist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ded himself on knowledge of soci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he had no clas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a nationalist and rac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nted a strong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22680" y="2133720"/>
            <a:ext cx="25765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significant was Ballan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ered cancer of colon from September 18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don was Acting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Ivor calls him ‘the rainmake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dn’t achieve much but created a party tra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uggle gave him st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 December 1890 Election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election in a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tic political deb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erals won in the 4 main cities and some of the t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lear result but Atkinson resigned 27 January 18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erals stayed in power for the next 21 yea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o were the Liberals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eral Party in England was formed by Whigs and Radicals and led by Glad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 Laissez Faire tradition emphasising free trade, peace, reform, battling conserv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ttle against conservatism was easily won in New Zea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w Zealand Liberal valu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cern to stop runholder do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presented people in t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presented the small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nted positive liberalism- reform and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nted protection not fre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ohn Ballance 1839-189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sterman and Birmingham ironm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 in 1866 to Wanganui, newspaper publi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provi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thinker, democ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ured self-re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90840" y="1704960"/>
            <a:ext cx="301932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ohn McKenzi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ish cro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loud-mouthed b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 of lands, immigration &amp; 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5000" y="1911240"/>
            <a:ext cx="312408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ir Patrick Buckley 1840-1896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rish Catho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ad been company secretary for a BNZ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ttorney General and Colonia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24360" y="1704960"/>
            <a:ext cx="31053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8c0039"/>
                </a:solidFill>
                <a:latin typeface="Arial"/>
              </a:rPr>
              <a:t>William Pember Reeves 1857-193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Christchurch liberal, with degree, writer, law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w self as a Fab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 of Justice, Education &amp; Lab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48480" y="1600200"/>
            <a:ext cx="30574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ir Joseph War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Catholic draper &amp; freezing work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master-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15000" y="1936800"/>
            <a:ext cx="3124080" cy="382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07:36:13Z</dcterms:created>
  <dc:creator>Peter Lineham</dc:creator>
  <dc:description/>
  <dc:language>en-US</dc:language>
  <cp:lastModifiedBy>John Pipe</cp:lastModifiedBy>
  <dcterms:modified xsi:type="dcterms:W3CDTF">2009-10-27T09:48:30Z</dcterms:modified>
  <cp:revision>6</cp:revision>
  <dc:subject/>
  <dc:title>The Liberals 1890-189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