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D8A4-8637-48B6-9AC8-C1696DDED09A}" type="datetime">
              <a:rPr b="0" lang="en-AU"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BC45-B906-4597-89F8-BF256920C7A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0EC1-F3F3-4577-855D-D0E1121376F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933-C290-449D-BF76-9AF45D1B9EA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7117-EB83-4C79-A5B0-DE04AC1F32E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867F-329C-4342-9237-B63C3CA0642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C5A4-1828-4658-90FD-C3C150F2885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5273-C72C-4CC4-8EDA-3D9E2D3BEC8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8B82-C82B-4C74-9272-4ECE6844731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1D89-B801-48DE-8C2F-102EBA2491A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83EF-1C9C-4922-9F13-D343F769B61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D47D-C348-4392-A276-BD014EDAE50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FA64-A630-4C52-9610-BF2251B1B5A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9BA2-AABD-4D72-8E24-CF8561615E9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E4C0-D613-4D76-8406-E5B84E9112C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7DC4-A62F-417A-A4D6-37E5D0BA86B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3DB5-A0D9-497A-924D-3447368143E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B0C7-5E1F-46FF-A4A7-7F1A276B616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33AC-1AF6-4036-9465-61C1FFD89CC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8C06-56C6-4EA2-9BB4-59A7A7044A4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4CF7-8947-4C8E-96FD-426FEE792F8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1DB9-C9A8-407C-A9D8-B3A3D8ACB86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4ACE-1F39-4470-A35A-A1B9D7A370E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6298-81BF-4F1F-9B67-2E3D9499EFB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FFB7-1061-47E4-8629-12BFF19D7CF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B4F2-7FEF-49B1-AFEB-8437AB8410A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48C8-1FDD-4309-AE0E-8C2447947FA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8462-0039-4317-B823-C1F986C01A4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9A8F-A36C-4B1F-81F1-49A1A6294E4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2236-5144-4F31-8797-47A2D22AC48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5F7A-BDDF-4675-8D6E-9A413BE5872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B597B-E838-49DE-9BF4-D15A4A9B9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7ECD5-D75B-457E-B7B9-E4A3FBA1C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0E7B-B87B-4E8A-9E8B-EB0B8EC31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50F46-EB07-4178-93DC-17BBF61F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10A7-E8CE-4AA4-9D96-D979A5B4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C305-235E-4288-97E0-EA635D29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75E8-36ED-4EE0-9282-4B698383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507AC-8D89-402B-8D0B-DAA457D0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737E-8CCD-43CB-98C5-5AB59E655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CC6F-5F24-491F-909A-162F0C01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155F-4223-45CD-956B-B9B85351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56D2-DCB0-4D24-A588-9791E88EF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ECC6-9242-4A38-85EE-40C3249D4816}" type="datetime">
              <a:rPr b="0" lang="en-A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4473-490D-4E87-B880-42FBA3AB704C}"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21B2-111A-420B-8E49-2D52EEF70493}"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0065-11C0-4C2C-B5C4-C40ECB6F1E73}"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