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42376-FAFB-461B-AF8F-970D363DF3BC}" type="datetime">
              <a:rPr b="0" lang="en-AU"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9693C-C576-4502-A3C4-859E012181AC}"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A30A2-1A3C-46A2-822D-A60548CB597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9EBD-2CA9-4897-886E-6813B380C08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8E6D1-D29A-461D-94FD-C7ADD4E3F37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8BBEB-A5AC-4625-92A1-F6EB5528586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490A5-E3A9-4B7A-8E80-33F6673B54E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18739-6BFF-489D-87D0-EC4BE976AD2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965B4C-F991-42DA-B272-0C60A6C649F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F7DE-9C81-4463-93E5-58A45F3252C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B30C9-D291-4D59-ADEE-64098B22D01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F0FA-F83C-4243-9409-C1B50927B79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F3AF4-5D6C-4774-8187-5BBE50D489E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5B99-3BE3-453C-AEC8-3F8C3718E5E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8E995-BB26-4D4F-9B50-86013C7D68A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2A1B6-EF5E-43EB-A447-020FA43EC5D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BA6AA-CD81-4874-92E6-DC884D39C4D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BA442-3089-4812-9203-4FFE0E61881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EF6A0-3AA4-450E-A29E-44C648B0AE6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463D2-5CF8-4C79-88A2-75E5C82C39E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C0747-CFDE-45E5-AED5-9ECDD67AB6C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054D4-3CEB-4A9E-B44F-A9FD5F7D63C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918A1-96A7-4D3A-97EE-83DB8EEA93F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8921-8EAB-419E-8AF2-CB92E8CCEF9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22826-C030-46CF-9BF9-E1DAFE290C7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1B3A7-169A-4171-87FE-02232146EF0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8C5F-623D-43F7-9539-82BFE0002B15}"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B3B65-350F-4FE6-B7C0-E3FE6C329FB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E7EF0-A81D-4C59-B7EF-51DE7C5829E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6920D-CF7F-4DEB-911A-F8A13A0F601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1C4EF-8BE7-4A13-A066-3C3D7EB0A7A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E76F2A-97EF-4954-9B7B-1349FE8DD7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41F419-86A5-4DB8-B024-1CB786DB91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8FAF3-D39C-4CB2-9D9F-D5552A397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2E459A-EFED-4A1B-91A6-55F03F567A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D3B63-C828-48F5-B992-3E66D0E33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4B466C-627D-4C2B-B19E-47847F01C6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4F6E5B-FFEC-4585-87BA-EB5714F06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2CA669-A96D-4676-8935-067A6D52DA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42597-A28E-4E87-BEDD-E02BB96C75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7321-1511-4FC7-9FE0-0399B5117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E9F2A3-D4C9-4681-B9AA-77F5F2B8A0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F61C7-B536-4B46-9EE9-BCE1519992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A9BA-4E2F-4682-A27A-B3F566258307}" type="datetime">
              <a:rPr b="0" lang="en-AU"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644C2-B9F6-42B0-8F8F-8E77FFAD31C4}"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12ED4-1926-46DC-B3AA-8D92C80435B6}"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455E1-871C-4D23-B882-42EF807D5513}"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