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AF7E-4399-4323-8FE9-3E766D2A977A}" type="datetime">
              <a:rPr b="0" lang="en-AU"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74A7-67FF-4E20-BF7C-4176C619EB19}"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6D93-AB1A-48B4-947F-5DAB53B96D8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D79E-7AD4-407F-8BBB-9D2D4A01B39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9539-AA6E-4186-B356-CA8E3BBFBAE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AA85-8715-4DA5-AE52-FD3EA5C0D56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C2B8-B8E5-4F56-8E00-59F2A063EFD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53B6-92CB-4485-81C7-B8E1D7AB3DA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DCE0-877F-47B9-AEC3-70778970F29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1960-90B4-41A5-9119-96DDF65020F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1183-30A3-4583-8E77-9F1208389B8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12BD-2899-4460-8431-554C637A577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C5C1-638E-45F5-94FE-FBEA96DD001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1E52-DD11-4C48-B32F-609388EBB1F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C3E6-8ED9-47A2-83B2-D85A04E5BBC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2E55-E317-4B8E-9C12-6ABD61D59D5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888B-1EB5-47F4-820F-599C4A6C327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3036-1D57-4D1D-B28A-2820E6FD525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4C38-F2BC-49D8-B091-600D78E3699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9D62-0E7D-4039-8897-141C3A84873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A768-7335-4145-BB2C-77942F01AC2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B6B3-F7AD-4438-830E-14AA0EF01DF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0890-E37D-4BA9-B4A2-D7E5333E5B3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4C2F-60FA-4254-9AC0-EA9B1943460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4CF1-E02C-4AA8-A378-C3479571CC6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31C7-13EC-41A5-A69E-0FBC92AE1ED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8E47-00C6-49F1-8823-27B56637378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7491-B57E-4300-9812-DBAB1567024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423F-AB75-4568-8A2D-3BAC648F071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721D-E6BB-416A-8DA2-CF2484EEC9D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C27A-EF77-46DC-A9B0-CB3616393AB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12B0-D3FB-4156-B659-B6DCA969F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4CD8C-3FD6-4C1E-B429-1DBAF6F1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9C989-3B7E-44B0-B803-E2218E70F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245A7-4ABE-42C6-8F7E-25797E083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CAE40-9764-493A-B697-B22B47FCF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2F27-381F-4B5D-A730-18C375D9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CCA32-CFFD-4AC0-A632-A30724F4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FC3A9-E8B4-4D0F-A3EB-00235047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68A48-7D16-499E-B456-22B8D0B26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ADA5-1FCA-4BA5-A382-D9FF0408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FDFE-C2EE-4F71-8D13-0A8E333B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92F0-D43B-433F-A646-44C463505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E56A-1107-433E-9DF7-DFB1F4C79A2C}" type="datetime">
              <a:rPr b="0" lang="en-AU"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34F3-A041-48F8-A449-405D572D18E0}"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CC45-0BDA-45BF-B77D-6F4ACBEEEF3D}"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8FDF-A9E9-4B46-B544-DFFFBC010962}"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