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2615-1730-48B2-8757-08245214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1E2-CACA-400C-B2DF-5D4E4FB7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9EBB-8BB9-482A-942B-552B3A2F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DD08-17E5-4421-888C-2D1C111AE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4B50-95FB-4A57-87F9-677642C36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456DB-1E3A-4C99-8AF6-3310D473F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6F9E-6547-492D-AD37-B1B59059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B61D-BB0F-4624-BB85-045DD8F6C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7692F-D915-4BC4-BC59-9449D336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E15F0-7DCD-49B4-9114-7B0DAB6F1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A5FC9-06E8-4971-858B-D8031BF9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823E-3E6E-4009-8576-FEA046C5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EBCF-8A84-4290-98BD-F23C00E72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BBF9-9ACB-4E1A-814F-3C1ACCD26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EB0F5-8E04-4183-AF59-532634685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CC49-D71A-49B4-9884-B9E10D3F3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C27B-7766-481A-AFA5-1E4D7131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32E-ED30-46BC-B6B8-8F1AB7F1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DEEB-58A8-44F4-85FF-98A1DF98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D5E4-FEBE-444E-A49B-99EA4ECF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B38E-CB18-4E4E-85B8-4302A541F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F3C6-CA7B-483F-A33E-B5F92A15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F83-CBE2-4313-8571-3E82EA5DB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AD4E-7D77-4277-BD5D-5EDBB2BF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3C6FA-CE6C-4948-9845-DB5201521E5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F315-7FF1-42A3-93E9-77976EAE5886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Events Leading to War</a:t>
            </a: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Grey decided the Waitara should be returned to its Maori owners. But first he occupied the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Tataraimaka block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which had been seized by Taranaki tribes. The angry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Atiawa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unsuccessfully ambushed government troops at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Oakura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. The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Waitara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officially returned in May 1863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Grey blamed the Kingites for the Oakura ambush. He also claimed they had a plot to invade Auckl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On 11 July 1863 he ordered the invasion of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Causes of Conflict in the Waikato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long-term cause was the basic antagonism of Maori and Pakeha. The settlers and even the missionaries welcomed war. They wanted to subjugate Maori nationalism. Their argument was that the </a:t>
            </a: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'rule of Pakeha law should prevail'.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Grey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lik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Gore Browne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wanted to establish British authority more effectively. Grey saw the Oakura ambush as a rejection of British authorit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1224000" cy="1655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56360" y="3429000"/>
            <a:ext cx="12240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settlers and financiers coveted the rich lands of the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The Opposing Arm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The British Force</a:t>
            </a:r>
            <a:r>
              <a:rPr b="0" i="1" lang="en-NZ" sz="20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1" i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In</a:t>
            </a:r>
            <a:r>
              <a:rPr b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1864 Grey had 14000 men. Of these, 4000 were </a:t>
            </a:r>
            <a:r>
              <a:rPr b="0" lang="en-NZ" sz="2000" spc="-1" strike="noStrike">
                <a:solidFill>
                  <a:srgbClr val="00cc66"/>
                </a:solidFill>
                <a:latin typeface="Arial"/>
              </a:rPr>
              <a:t>colonial force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, 9000 were </a:t>
            </a:r>
            <a:r>
              <a:rPr b="0" lang="en-NZ" sz="2000" spc="-1" strike="noStrike">
                <a:solidFill>
                  <a:srgbClr val="00cc66"/>
                </a:solidFill>
                <a:latin typeface="Arial"/>
              </a:rPr>
              <a:t>Imperial soldier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, a few hundred were pro-British </a:t>
            </a:r>
            <a:r>
              <a:rPr b="0" i="1" lang="en-NZ" sz="2000" spc="-1" strike="noStrike">
                <a:solidFill>
                  <a:srgbClr val="00cc66"/>
                </a:solidFill>
                <a:latin typeface="Arial"/>
              </a:rPr>
              <a:t>Queenite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 (Arawa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Total mobilisation is estimated at 18 000 men. They were commanded by 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</a:rPr>
              <a:t>Lieutenant- General Cameron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. It</a:t>
            </a:r>
            <a:r>
              <a:rPr b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was one of the best prepared and organised British campaign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172872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ff0000"/>
                </a:solidFill>
                <a:uFillTx/>
                <a:latin typeface="Arial"/>
              </a:rPr>
              <a:t>The Maori Force</a:t>
            </a:r>
            <a:r>
              <a:rPr b="0" i="1" lang="en-NZ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With limited written evidence estimates of their strength have varied greatly. Cycles of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concentration and dispersal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were characteristic. On three occasions forces of 1000-2000 men assembled for up to three months. Total Maori mobilisation is estimated as 4000 warrior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is would only have been possible with a high degree of co-operative acti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Leaders wer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ewi Maniapoto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f Ngati Maniapoto,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Wiremu Tamehan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f Ngatihaua, and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ikaokao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of Ngati Maniapo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1511640" cy="2016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4360" y="3860640"/>
            <a:ext cx="1511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Proclamation of W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On 9 July 1864, Grey issued a Proclamation calling on all Maori living north of th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angatawhiri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river to take the oath of allegiance to Queen Victoria or retire beyond the riv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ose who resisted were liable to have land confiscated. This did not reach the Waikato until after Cameron's troops had crossed the Mangatawhiri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78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79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INVA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invasion commenced with a small victory at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Koheroa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in July 1863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But the advance was then held up for 3 months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by a Defensive line of modern pa at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Meremere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when Cameron finally assembled enough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men to protect his communications and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take Meremere the Maori simply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bandoned i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From this point on though Cameron's main advantage began to make itself fe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a large and constant flow of resourc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00"/>
                </a:solidFill>
                <a:uFillTx/>
                <a:latin typeface="Arial"/>
              </a:rPr>
              <a:t>Grey's Peace Polic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Grey set up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unang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r new institutions to give the chiefs local administrative powers. When the Maori chiefs did not use it to sell land it lost its appe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645080" y="1598760"/>
            <a:ext cx="40370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The Fighting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Maori force used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guerilla tactics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, killing settlers in outlying districts, and attacking communication line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Cameron had to tie up three-quarters of his men in protecting communication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Maori aim was to block Pakeha progress into the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The Sequence of F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Meremere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A Maori force of about 1500 men constructed a pa and held up the British advance for 14 weeks, then dispers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0000"/>
                </a:solidFill>
                <a:latin typeface="Arial"/>
              </a:rPr>
              <a:t>Rangiriri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Cameron was able to mount a continuous offensive and he caught the Maori army only 1/2 assembled at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angiriri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the second Maori defensive line, on 20 Novemb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Cameron's army was able to take a lightly  held part of the fortifications but seven assaults against the rest failed with 13 casualt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Maori partly evacuated, although 18 were taken prison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Its capture opened up the Waika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Ngaruawahia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occupied by the British on 9 December. Cameron offered terms which were reject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owever Ngaruawahia held no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military or economic significance,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and Maori did not subm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instead they fortified their third and 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 greatest Waikato line - </a:t>
            </a: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Paterangi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Paterangi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by-passed by a brilliant British maneuver. This allowed Cameron into the heartland of the Waikato.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Rangiaowhai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was burned and sack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Paterangi was an awesome moden pa with extensive trench systems;  Cameron realised storming it was impossible so he outflanked it in February 1864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is allowed Cameron into the heartland of the Waikato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He marched 1200 troops around it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t night and sacked the nearb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Maori town of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Rangiaowh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He then withdrew to await the Maor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respons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Tamihana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knew the superiority of British troops i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regular warfare and so withdrew from the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aterang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lin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Paterangi operations gave the British one of the three main agricultural heartlands of the Waikato trib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They also represented the first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permanently damaging defeat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suffered by Maori in the New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Zealand Wa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0000"/>
                </a:solidFill>
                <a:latin typeface="Arial"/>
              </a:rPr>
              <a:t>Orakau</a:t>
            </a:r>
            <a:r>
              <a:rPr b="0" i="1" lang="en-NZ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Rewi Maniapoto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forced into a defensive stand on a un- suitable site, resisted five assaults before attempting an audacious breakout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651640" y="2133720"/>
            <a:ext cx="1728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End of Waikato War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Cameron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decided against advancing further into the rugged hill country of the Ngati Maniapoto. War came to an indecisive end in 1864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ey also tried flattery and gifts, his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'flour and sugar'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olicy , but pensions and gifts could not solve the problems of a declining population, social disruption and poverty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Waikato Wars had no satisfying climax so two were inven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One was Orakau which was said to have crushed th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King Mov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in fact further modern pa defended the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remaining economic heartland's of Waika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y were never taken and became the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new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aukat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between what became known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s the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King Country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and the Pakeha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sphe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second occurred at Tauranga, where the Waika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fighting spilled over in 186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War Poli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At the same time Grey prepared for wa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e was uneasy about the formidable, independent, central tribes. The limited support the King Movement had given to the Taranaki war had demonstrated its military muscle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e built roads into the Waikato and planned for gunboats on the Waikato River. He kept the troops from the Taranaki War, supplementing them with an extra 3000 me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cc66"/>
                </a:solidFill>
                <a:latin typeface="Arial"/>
              </a:rPr>
              <a:t>Grey and Cameron made careful preparations for the invasion of the Waika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rmed and armored steamers were acquired for the Waikato riv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Great South Road and protective forts were buil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 supply organization was buil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 military telegraph linked Auckland to the fro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ree extra regiments and other reinforcements were 'prised' out of the Imperial Governmen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meron's revelation to London that Grey's allegedly imminent 'Maori Rebellion' had not persuaded the settlers to spend any money on their own defense came too late to stop the flow of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imperial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sourc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29527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Numbers of </a:t>
            </a:r>
            <a:r>
              <a:rPr b="0" lang="en-NZ" sz="3200" spc="-1" strike="noStrike">
                <a:solidFill>
                  <a:srgbClr val="00cc66"/>
                </a:solidFill>
                <a:latin typeface="Arial"/>
              </a:rPr>
              <a:t>imperial troops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rose from about 8000 in July 1861 to about 12000 in May 1864.  About 3/4's of these troops were available for the Waikato wa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Colonial Government contributed a few hundred </a:t>
            </a:r>
            <a:r>
              <a:rPr b="0" lang="en-NZ" sz="2800" spc="-1" strike="noStrike">
                <a:solidFill>
                  <a:srgbClr val="00cc66"/>
                </a:solidFill>
                <a:latin typeface="Arial"/>
              </a:rPr>
              <a:t>colonial regu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Forest Rangers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and the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Colonial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 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    Defence Force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caval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nd a substantial number of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iliti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volunteers from Auckl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se were gradually replaced by Military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settlers - The Waikato militia - mainly men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from the Australian and Otago goldfields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on the promise of confiscated Maori l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06:48:41Z</dcterms:created>
  <dc:creator>Administrator</dc:creator>
  <dc:description/>
  <dc:language>en-US</dc:language>
  <cp:lastModifiedBy>John Pipe</cp:lastModifiedBy>
  <dcterms:modified xsi:type="dcterms:W3CDTF">2009-06-11T11:27:48Z</dcterms:modified>
  <cp:revision>6</cp:revision>
  <dc:subject/>
  <dc:title>Slide 1</dc:title>
</cp:coreProperties>
</file>