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0BD-4C88-4271-A7E2-3EAE9B5F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6CA-0462-4314-A208-C2471EB1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CC1-0DAB-4D89-8E69-E82E32E2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2F6-9E06-4CEC-BB36-C371C541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FCB-C46C-4F41-8EE2-D98C8000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23B6-0B5B-45EB-952B-D6672B4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A43B-D7C7-4CE3-AAC8-18E34563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F10B-6921-4FB3-9554-A90B4101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FC20-00E3-41C9-8381-6485F1E4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31ED-CAC3-49BB-8A83-B0115EF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AC0B-24F7-4965-851C-195E5533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2A1-D0BA-4A48-9B45-24224F38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9697-D0C6-4EEF-B9C2-1B3A148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8354-6BF6-40BA-8E82-B5018BF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D3B9-9706-4742-895C-6D4C823B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686A-AC42-4907-AABD-19482D89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AD50-F89B-48C6-AC65-0DDBE3B5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5C0-371A-48CA-8CCB-CCDF1169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AF5-9B1F-470E-854E-417906B4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115-208C-435C-9687-E0DA3BE8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450-E230-4B78-BDBB-F14EAED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750-6E17-4FB7-B827-473A1CE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D9B-E734-46B1-A8CE-AE89C148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55B-5BF9-4600-8A01-5976E15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0B85-FD4B-4A1E-9DC7-A7366BFA3A5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65C7-2827-4CAC-9339-7BF7ECB839D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vents Leading to War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decided the Waitara should be returned to its Maori owners. But first he occupied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Tataraimaka block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hich had been seized by Taranaki tribes. The angry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Atiaw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unsuccessfully ambushed government troops at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Oakur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aitara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fficially returned in May 1863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blamed the Kingites for the Oakura ambush. He also claimed they had a plot to invade Auckl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On 11 July 1863 he ordered the invasion of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Causes of Conflict in the Waikato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long-term cause was the basic antagonism of Maori and Pakeha. The settlers and even the missionaries welcomed war. They wanted to subjugate Maori nationalism. Their argument was that the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'rule of Pakeha law should prevail'.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rey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lik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ore Brown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wanted to establish British authority more effectively. Grey saw the Oakura ambush as a rejection of British authorit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224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12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settlers and financiers coveted the rich lands of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The Opposing Arm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he British Force</a:t>
            </a:r>
            <a:r>
              <a:rPr b="0" i="1" lang="en-NZ" sz="2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1" i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1864 Grey had 14000 men. Of these, 4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colonial forc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9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Imperial soldier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a few hundred were pro-British </a:t>
            </a:r>
            <a:r>
              <a:rPr b="0" i="1" lang="en-NZ" sz="2000" spc="-1" strike="noStrike">
                <a:solidFill>
                  <a:srgbClr val="00cc66"/>
                </a:solidFill>
                <a:latin typeface="Arial"/>
              </a:rPr>
              <a:t>Queenit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(Arawa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Total mobilisation is estimated at 18 000 men. They were commanded by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Lieutenant- General Cameron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. It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was one of the best prepared and organised British campaig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1728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ff0000"/>
                </a:solidFill>
                <a:uFillTx/>
                <a:latin typeface="Arial"/>
              </a:rPr>
              <a:t>The Maori Force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With limited written evidence estimates of their strength have varied greatly. Cycles of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ncentration and dispersal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were characteristic. On three occasions forces of 1000-2000 men assembled for up to three months. Total Maori mobilisation is estimated as 4000 warrior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is would only have been possible with a high degree of co-operative acti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Leaders wer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 Maniapoto,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Wiremu Tamehan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haua, and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ikaokao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f Ngati Maniapo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1511640" cy="2016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Proclamation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n 9 July 1864, Grey issued a Proclamation calling on all Maori living north of th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ngatawhiri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river to take the oath of allegiance to Queen Victoria or retire beyond the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ose who resisted were liable to have land confiscated. This did not reach the Waikato until after Cameron's troops had crossed the Mangatawhiri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INVA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invasion commenced with a small victory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ohero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in July 186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ut the advance was then held up for 3 months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by a Defensive line of modern pa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when Cameron finally assembled enough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men to protect his communications and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take Meremere the Maori simply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bandoned i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rom this point on though Cameron's main advantage began to make itself fe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a large and constant flow of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Grey's Peace Polic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Grey set up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unang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r new institutions to give the chiefs local administrative powers. When the Maori chiefs did not use it to sell land it lost its appe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Fighting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force used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guerilla tactic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, killing settlers in outlying districts, and attacking communication li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Cameron had to tie up three-quarters of his men in protecting communication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aim was to block Pakeha progress into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Sequence of F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 Maori force of about 1500 men constructed a pa and held up the British advance for 14 weeks, then dispers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 was able to mount a continuous offensive and he caught the Maori army only 1/2 assembled at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the second Maori defensive line, on 20 Nove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's army was able to take a lightly  held part of the fortifications but seven assaults against the rest failed with 13 casual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Maori partly evacuated, although 18 were taken prison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Its capture opened up the Waika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Ngaruawahia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ccupied by the British on 9 December. Cameron offered terms which were rej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owever Ngaruawahia held no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military or economic significance,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and Maori did not subm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instead they fortified their third and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 greatest Waikato line -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by-passed by a brilliant British maneuver. This allowed Cameron into the heartland of the Waikato.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angiaowha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as burned and sack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Paterangi was an awesome moden pa with extensive trench systems;  Cameron realised storming it was impossible so he outflanked it in February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is allowed Cameron into the heartland of the Waika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marched 1200 troops around it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t night and sacked the nearb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Maori town of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angiaowh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then withdrew to await the Maor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mihan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knew the superiority of British troop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regular warfare and so withdrew from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aterang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li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Paterangi operations gave the British one of the three main agricultural heartlands of the Waikato trib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They also represented the firs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permanently damaging defea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suffered by Maori in the New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Zealand Wa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Orakau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forced into a defensive stand on a un- suitable site, resisted five assaults before attempting an audacious breakou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28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nd of Waikato War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ameron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decided against advancing further into the rugged hill country of the Ngati Maniapoto. War came to an indecisive end in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y also tried flattery and gifts, h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'flour and sugar'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olicy , but pensions and gifts could not solve the problems of a declining population, social disruption and poverty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Waikato Wars had no satisfying climax so two were inv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One was Orakau which was said to have crush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King Mov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in fact further modern pa defended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maining economic heartland's of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y were never taken and became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new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ukat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etween what became known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s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ing Country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and the Pakeha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sphe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second occurred at Tauranga, where the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ighting spilled over in 186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War Poli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t the same time Grey prepared for wa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was uneasy about the formidable, independent, central tribes. The limited support the King Movement had given to the Taranaki war had demonstrated its military muscl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built roads into the Waikato and planned for gunboats on the Waikato River. He kept the troops from the Taranaki War, supplementing them with an extra 3000 me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Grey and Cameron made careful preparations for the invasion of the Waik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rmed and armored steamers were acquired for the Waikato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Great South Road and protective forts were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supply organization was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military telegraph linked Auckland to the fro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ree extra regiments and other reinforcements were 'prised' out of the Imperial Gover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meron's revelation to London that Grey's allegedly imminent 'Maori Rebellion' had not persuaded the settlers to spend any money on their own defense came too late to stop the flow of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imperial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ourc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952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Numbers of </a:t>
            </a:r>
            <a:r>
              <a:rPr b="0" lang="en-NZ" sz="3200" spc="-1" strike="noStrike">
                <a:solidFill>
                  <a:srgbClr val="00cc66"/>
                </a:solidFill>
                <a:latin typeface="Arial"/>
              </a:rPr>
              <a:t>imperial troop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rose from about 8000 in July 1861 to about 12000 in May 1864.  About 3/4's of these troops were available for the Waikato wa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Colonial Government contributed a few hundred 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colonial regu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Forest Rangers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lonial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  Defence Forc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caval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nd a substantial number of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iliti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volunteers from Auck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se were gradually replaced by Military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settlers - The Waikato militia - mainly men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from the Australian and Otago goldfields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on the promise of confiscated Maori 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06:48:41Z</dcterms:created>
  <dc:creator>Administrator</dc:creator>
  <dc:description/>
  <dc:language>en-US</dc:language>
  <cp:lastModifiedBy>John Pipe</cp:lastModifiedBy>
  <dcterms:modified xsi:type="dcterms:W3CDTF">2009-06-11T11:27:48Z</dcterms:modified>
  <cp:revision>6</cp:revision>
  <dc:subject/>
  <dc:title>Slide 1</dc:title>
</cp:coreProperties>
</file>