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6738-78B8-44BA-9098-2F0142631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EAFF-63CD-437B-BF8E-2A4E3A2D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438D-CA32-45B6-934E-243547325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1349-8E18-453E-810F-91264413B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9CC1-FE56-4741-8071-DC855DA41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F08E-217C-4CBC-885A-F4067699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C07A-06CF-45FA-BEA4-9A0E2A30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016E-A920-4B93-89C0-911F015C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11BE-36BC-42C5-A0FA-3EBC97AB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F06E9-0BB1-4CBD-A906-377278FE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2B21E-8A9B-4FAA-90AC-4E9C70B3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54EB-5575-41BA-8A59-160DCEB1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CA4E-02C5-4D92-958C-559E356E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F20D-0BAF-4AB8-80BB-FEB9066B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A4F5-3673-46AA-8D93-01AE113B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DA6B-484F-4C2C-90EE-1B1A1D9D7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3CDC-6BC6-42F9-AC7A-5B6F1DBA4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3A39-8B73-4C72-8D8C-F1E5946A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BBFE-6AE6-4DA3-B20F-8CED33A3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CDBF-69AA-40BF-87B9-10A0EF56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1D3A-5D42-4B4D-9B52-A5A2D776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E6CE-CE7A-4CA5-A04E-CCBBE66B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8D8E-A393-421A-8C40-5FFFE412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CF9B-E053-4376-A8A5-A8A8912A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4E21-15D5-4257-A8CA-CBDFDD5F3FDE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DCA5-2A23-498A-A31C-D6E418C217E4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ffff00"/>
                </a:solidFill>
                <a:uFillTx/>
                <a:latin typeface="Arial"/>
              </a:rPr>
              <a:t>Events Leading to War</a:t>
            </a: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Grey decided the Waitara should be returned to its Maori owners. But first he occupied the </a:t>
            </a: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Tataraimaka block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which had been seized by Taranaki tribes. The angry </a:t>
            </a: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Atiawa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unsuccessfully ambushed government troops at </a:t>
            </a: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Oakura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. The </a:t>
            </a: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Waitara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was officially returned in May 1863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Grey blamed the Kingites for the Oakura ambush. He also claimed they had a plot to invade Auckl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On 11 July 1863 he ordered the invasion of Waikato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ffff00"/>
                </a:solidFill>
                <a:uFillTx/>
                <a:latin typeface="Arial"/>
              </a:rPr>
              <a:t>Causes of Conflict in the Waikato</a:t>
            </a:r>
            <a:r>
              <a:rPr b="1" lang="en-NZ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The long-term cause was the basic antagonism of Maori and Pakeha. The settlers and even the missionaries welcomed war. They wanted to subjugate Maori nationalism. Their argument was that the </a:t>
            </a:r>
            <a:r>
              <a:rPr b="0" i="1" lang="en-NZ" sz="3200" spc="-1" strike="noStrike">
                <a:solidFill>
                  <a:srgbClr val="ff0000"/>
                </a:solidFill>
                <a:latin typeface="Arial"/>
              </a:rPr>
              <a:t>'rule of Pakeha law should prevail'.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Grey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, like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Gore Browne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, wanted to establish British authority more effectively. Grey saw the Oakura ambush as a rejection of British authority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1224000" cy="16556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156360" y="3429000"/>
            <a:ext cx="122400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The settlers and financiers coveted the rich lands of the Waikato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ffff00"/>
                </a:solidFill>
                <a:uFillTx/>
                <a:latin typeface="Arial"/>
              </a:rPr>
              <a:t>The Opposing Armi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The British Force</a:t>
            </a:r>
            <a:r>
              <a:rPr b="0" i="1" lang="en-NZ" sz="20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1" i="1" lang="en-NZ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In</a:t>
            </a:r>
            <a:r>
              <a:rPr b="1" lang="en-NZ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1864 Grey had 14000 men. Of these, 4000 were </a:t>
            </a:r>
            <a:r>
              <a:rPr b="0" lang="en-NZ" sz="2000" spc="-1" strike="noStrike">
                <a:solidFill>
                  <a:srgbClr val="00cc66"/>
                </a:solidFill>
                <a:latin typeface="Arial"/>
              </a:rPr>
              <a:t>colonial forces</a:t>
            </a: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, 9000 were </a:t>
            </a:r>
            <a:r>
              <a:rPr b="0" lang="en-NZ" sz="2000" spc="-1" strike="noStrike">
                <a:solidFill>
                  <a:srgbClr val="00cc66"/>
                </a:solidFill>
                <a:latin typeface="Arial"/>
              </a:rPr>
              <a:t>Imperial soldiers</a:t>
            </a: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, a few hundred were pro-British </a:t>
            </a:r>
            <a:r>
              <a:rPr b="0" i="1" lang="en-NZ" sz="2000" spc="-1" strike="noStrike">
                <a:solidFill>
                  <a:srgbClr val="00cc66"/>
                </a:solidFill>
                <a:latin typeface="Arial"/>
              </a:rPr>
              <a:t>Queenites</a:t>
            </a: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 (Arawa)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Total mobilisation is estimated at 18 000 men. They were commanded by </a:t>
            </a:r>
            <a:r>
              <a:rPr b="0" lang="en-NZ" sz="2000" spc="-1" strike="noStrike">
                <a:solidFill>
                  <a:srgbClr val="0000ff"/>
                </a:solidFill>
                <a:latin typeface="Arial"/>
              </a:rPr>
              <a:t>Lieutenant- General Cameron</a:t>
            </a: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. It</a:t>
            </a:r>
            <a:r>
              <a:rPr b="1" lang="en-NZ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was one of the best prepared and organised British campaigns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651640" y="2276640"/>
            <a:ext cx="1728720" cy="26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 u="sng">
                <a:solidFill>
                  <a:srgbClr val="ff0000"/>
                </a:solidFill>
                <a:uFillTx/>
                <a:latin typeface="Arial"/>
              </a:rPr>
              <a:t>The Maori Force</a:t>
            </a:r>
            <a:r>
              <a:rPr b="0" i="1" lang="en-NZ" sz="28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With limited written evidence estimates of their strength have varied greatly. Cycles of </a:t>
            </a:r>
            <a:r>
              <a:rPr b="0" i="1" lang="en-NZ" sz="2800" spc="-1" strike="noStrike">
                <a:solidFill>
                  <a:srgbClr val="00cc66"/>
                </a:solidFill>
                <a:latin typeface="Arial"/>
              </a:rPr>
              <a:t>concentration and dispersal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were characteristic. On three occasions forces of 1000-2000 men assembled for up to three months. Total Maori mobilisation is estimated as 4000 warrior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This would only have been possible with a high degree of co-operative acti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Leaders were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Rewi Maniapoto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of Ngati Maniapoto,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Wiremu Tamehana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of Ngatihaua, and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Tikaokao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of Ngati Maniapoto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724360" y="1628640"/>
            <a:ext cx="1511640" cy="20163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5724360" y="3860640"/>
            <a:ext cx="1511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ffff00"/>
                </a:solidFill>
                <a:uFillTx/>
                <a:latin typeface="Arial"/>
              </a:rPr>
              <a:t>Proclamation of Wa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On 9 July 1864, Grey issued a Proclamation calling on all Maori living north of the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Mangatawhiri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river to take the oath of allegiance to Queen Victoria or retire beyond the riv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Those who resisted were liable to have land confiscated. This did not reach the Waikato until after Cameron's troops had crossed the Mangatawhiri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250" autoRev="1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78" dur="250" autoRev="1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79" dur="250" autoRev="1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ffff00"/>
                </a:solidFill>
                <a:uFillTx/>
                <a:latin typeface="Arial"/>
              </a:rPr>
              <a:t>INVA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The invasion commenced with a small victory at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Koheroa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in July 1863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But the advance was then held up for 3 months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  by a Defensive line of modern pa at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Meremere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when Cameron finally assembled enough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men to protect his communications and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take Meremere the Maori simply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abandoned it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From this point on though Cameron's main advantage began to make itself fel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a large and constant flow of resourc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ffff00"/>
                </a:solidFill>
                <a:uFillTx/>
                <a:latin typeface="Arial"/>
              </a:rPr>
              <a:t>Grey's Peace Polic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Grey set up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runanga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or new institutions to give the chiefs local administrative powers. When the Maori chiefs did not use it to sell land it lost its appeal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645080" y="1598760"/>
            <a:ext cx="403704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ffff00"/>
                </a:solidFill>
                <a:uFillTx/>
                <a:latin typeface="Arial"/>
              </a:rPr>
              <a:t>The Fighting</a:t>
            </a:r>
            <a:r>
              <a:rPr b="1" lang="en-NZ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The Maori force used </a:t>
            </a: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guerilla tactics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, killing settlers in outlying districts, and attacking communication lines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Cameron had to tie up three-quarters of his men in protecting communications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The Maori aim was to block Pakeha progress into the Waikato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ffff00"/>
                </a:solidFill>
                <a:uFillTx/>
                <a:latin typeface="Arial"/>
              </a:rPr>
              <a:t>The Sequence of Figh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ff0000"/>
                </a:solidFill>
                <a:latin typeface="Arial"/>
              </a:rPr>
              <a:t>Meremere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A Maori force of about 1500 men constructed a pa and held up the British advance for 14 weeks, then dispersed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ff0000"/>
                </a:solidFill>
                <a:latin typeface="Arial"/>
              </a:rPr>
              <a:t>Rangiriri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Cameron was able to mount a continuous offensive and he caught the Maori army only 1/2 assembled at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Rangiriri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, the second Maori defensive line, on 20 Novemb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Cameron's army was able to take a lightly  held part of the fortifications but seven assaults against the rest failed with 13 casualti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The Maori partly evacuated, although 18 were taken prison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Its capture opened up the Waikato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ff0000"/>
                </a:solidFill>
                <a:latin typeface="Arial"/>
              </a:rPr>
              <a:t>Ngaruawahia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was occupied by the British on 9 December. Cameron offered terms which were rejected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however Ngaruawahia held no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   military or economic significance,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   and Maori did not submi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instead they fortified their third and 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    greatest Waikato line - </a:t>
            </a:r>
            <a:r>
              <a:rPr b="0" i="1" lang="en-NZ" sz="3200" spc="-1" strike="noStrike">
                <a:solidFill>
                  <a:srgbClr val="ff0000"/>
                </a:solidFill>
                <a:latin typeface="Arial"/>
              </a:rPr>
              <a:t>Paterangi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ff0000"/>
                </a:solidFill>
                <a:latin typeface="Arial"/>
              </a:rPr>
              <a:t>Paterangi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was by-passed by a brilliant British maneuver. This allowed Cameron into the heartland of the Waikato. </a:t>
            </a: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Rangiaowhai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was burned and sacked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Paterangi was an awesome moden pa with extensive trench systems;  Cameron realised storming it was impossible so he outflanked it in February 1864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This allowed Cameron into the heartland of the Waikato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He marched 1200 troops around it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at night and sacked the nearby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Maori town of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Rangiaowh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He then withdrew to await the Maori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respons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Tamihana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knew the superiority of British troops in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regular warfare and so withdrew from the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Paterangi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lin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The Paterangi operations gave the British one of the three main agricultural heartlands of the Waikato trib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They also represented the first 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     permanently damaging defeat 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     suffered by Maori in the New 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     Zealand War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ff0000"/>
                </a:solidFill>
                <a:latin typeface="Arial"/>
              </a:rPr>
              <a:t>Orakau</a:t>
            </a:r>
            <a:r>
              <a:rPr b="0" i="1" lang="en-NZ" sz="28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Rewi Maniapoto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, forced into a defensive stand on a un- suitable site, resisted five assaults before attempting an audacious breakout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5651640" y="2133720"/>
            <a:ext cx="17287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ffff00"/>
                </a:solidFill>
                <a:uFillTx/>
                <a:latin typeface="Arial"/>
              </a:rPr>
              <a:t>End of Waikato War</a:t>
            </a:r>
            <a:r>
              <a:rPr b="1" lang="en-NZ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Cameron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decided against advancing further into the rugged hill country of the Ngati Maniapoto. War came to an indecisive end in 1864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rey also tried flattery and gifts, his 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'flour and sugar'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policy , but pensions and gifts could not solve the problems of a declining population, social disruption and poverty 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The Waikato Wars had no satisfying climax so two were invent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One was Orakau which was said to have crushed th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King Mov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in fact further modern pa defended the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remaining economic heartland's of Waikat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they were never taken and became the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new 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aukati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between what became known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as the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King Country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and the Pakeha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spher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The second occurred at Tauranga, where the Waikat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fighting spilled over in 1864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900" fill="hold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ffff00"/>
                </a:solidFill>
                <a:uFillTx/>
                <a:latin typeface="Arial"/>
              </a:rPr>
              <a:t>War Polic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At the same time Grey prepared for wa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He was uneasy about the formidable, independent, central tribes. The limited support the King Movement had given to the Taranaki war had demonstrated its military muscle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He built roads into the Waikato and planned for gunboats on the Waikato River. He kept the troops from the Taranaki War, supplementing them with an extra 3000 me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cc66"/>
                </a:solidFill>
                <a:latin typeface="Arial"/>
              </a:rPr>
              <a:t>Grey and Cameron made careful preparations for the invasion of the Waikat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Armed and armored steamers were acquired for the Waikato riv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The Great South Road and protective forts were buil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A supply organization was buil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A military telegraph linked Auckland to the fron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Three extra regiments and other reinforcements were 'prised' out of the Imperial Government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meron's revelation to London that Grey's allegedly imminent 'Maori Rebellion' had not persuaded the settlers to spend any money on their own defense came too late to stop the flow of </a:t>
            </a: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imperial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source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788000" y="1916280"/>
            <a:ext cx="295272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Numbers of </a:t>
            </a:r>
            <a:r>
              <a:rPr b="0" lang="en-NZ" sz="3200" spc="-1" strike="noStrike">
                <a:solidFill>
                  <a:srgbClr val="00cc66"/>
                </a:solidFill>
                <a:latin typeface="Arial"/>
              </a:rPr>
              <a:t>imperial troops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rose from about 8000 in July 1861 to about 12000 in May 1864.  About 3/4's of these troops were available for the Waikato wa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The Colonial Government contributed a few hundred </a:t>
            </a:r>
            <a:r>
              <a:rPr b="0" lang="en-NZ" sz="2800" spc="-1" strike="noStrike">
                <a:solidFill>
                  <a:srgbClr val="00cc66"/>
                </a:solidFill>
                <a:latin typeface="Arial"/>
              </a:rPr>
              <a:t>colonial regula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i="1" lang="en-NZ" sz="2800" spc="-1" strike="noStrike">
                <a:solidFill>
                  <a:srgbClr val="00cc66"/>
                </a:solidFill>
                <a:latin typeface="Arial"/>
              </a:rPr>
              <a:t>Forest Rangers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and the </a:t>
            </a:r>
            <a:r>
              <a:rPr b="0" i="1" lang="en-NZ" sz="2800" spc="-1" strike="noStrike">
                <a:solidFill>
                  <a:srgbClr val="00cc66"/>
                </a:solidFill>
                <a:latin typeface="Arial"/>
              </a:rPr>
              <a:t>Colonial </a:t>
            </a:r>
            <a:r>
              <a:rPr b="0" i="1" lang="en-NZ" sz="28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0" i="1" lang="en-NZ" sz="2800" spc="-1" strike="noStrike">
                <a:solidFill>
                  <a:srgbClr val="00cc66"/>
                </a:solidFill>
                <a:latin typeface="Arial"/>
              </a:rPr>
              <a:t>  </a:t>
            </a:r>
            <a:r>
              <a:rPr b="0" i="1" lang="en-NZ" sz="28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0" i="1" lang="en-NZ" sz="2800" spc="-1" strike="noStrike">
                <a:solidFill>
                  <a:srgbClr val="00cc66"/>
                </a:solidFill>
                <a:latin typeface="Arial"/>
              </a:rPr>
              <a:t>    Defence Force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caval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and a substantial number of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militia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and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   volunteers from Aucklan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These were gradually replaced by Military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   settlers - The Waikato militia - mainly men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   from the Australian and Otago goldfields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   on the promise of confiscated Maori lan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06:48:41Z</dcterms:created>
  <dc:creator>Administrator</dc:creator>
  <dc:description/>
  <dc:language>en-US</dc:language>
  <cp:lastModifiedBy>John Pipe</cp:lastModifiedBy>
  <dcterms:modified xsi:type="dcterms:W3CDTF">2009-06-11T11:27:48Z</dcterms:modified>
  <cp:revision>6</cp:revision>
  <dc:subject/>
  <dc:title>Slide 1</dc:title>
</cp:coreProperties>
</file>