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675-CBEF-40A8-9CB2-D9B47DCA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92C-7F70-4302-9093-75C3BBFD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D09-A914-4C4C-96BD-C7E81A6D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AA5-4D77-4613-8096-4D1A80D0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2D7C-D3FA-4170-977C-3DCA7FA1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FAEB-A821-402E-A162-B4D94037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4298-9AA6-4082-A9A9-7FF98F14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8C96-0D23-4C7C-A3B8-ABA9D37D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2317-B2B6-46D6-BC29-C3964254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0BA0-BD0F-42F0-8DCC-64CC1D50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5C12-3808-4D1A-840E-C2AE6E54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51E-6590-4821-9673-72D9CBF7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4F05-119C-4A4C-8C88-705178D5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338E-1D5D-4091-BACD-5FC6401C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0EE7-4B60-409A-91F9-9A1D8B94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F357-CCE0-4B1B-8271-A40CBE5B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4DA6-7A37-4100-889E-F8285FED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972-3EB3-4B04-ACD7-E2FD2FBD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D53-4654-47BD-BB40-6E78B29E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C8D-67D7-49D3-9CA9-BCD69DB6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27E-6169-4123-953E-1EF34A91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B5C-4B81-4EEF-B97E-4DBF040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DC9-C035-4F74-BB91-AF95B98E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F52-BC1F-4002-B42F-BF79DFD3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A5FC-786D-40C7-990A-3DAFB7B167D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3440-F845-43AE-AB14-BB052730476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vents Leading to War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decided the Waitara should be returned to its Maori owners. But first he occupied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Tataraimaka block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hich had been seized by Taranaki tribes. The angry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Atiaw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unsuccessfully ambushed government troops at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Oakur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Waitara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fficially returned in May 1863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blamed the Kingites for the Oakura ambush. He also claimed they had a plot to invade Auckl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On 11 July 1863 he ordered the invasion of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Causes of Conflict in the Waikato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long-term cause was the basic antagonism of Maori and Pakeha. The settlers and even the missionaries welcomed war. They wanted to subjugate Maori nationalism. Their argument was that the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'rule of Pakeha law should prevail'.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rey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lik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ore Brown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wanted to establish British authority more effectively. Grey saw the Oakura ambush as a rejection of British authorit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1224000" cy="1655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56360" y="3429000"/>
            <a:ext cx="1224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settlers and financiers coveted the rich lands of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The Opposing Arm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The British Force</a:t>
            </a:r>
            <a:r>
              <a:rPr b="0" i="1" lang="en-NZ" sz="20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1" i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1864 Grey had 14000 men. Of these, 4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colonial forc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9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Imperial soldier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a few hundred were pro-British </a:t>
            </a:r>
            <a:r>
              <a:rPr b="0" i="1" lang="en-NZ" sz="2000" spc="-1" strike="noStrike">
                <a:solidFill>
                  <a:srgbClr val="00cc66"/>
                </a:solidFill>
                <a:latin typeface="Arial"/>
              </a:rPr>
              <a:t>Queenit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(Arawa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Total mobilisation is estimated at 18 000 men. They were commanded by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Lieutenant- General Cameron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. It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was one of the best prepared and organised British campaign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17287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ff0000"/>
                </a:solidFill>
                <a:uFillTx/>
                <a:latin typeface="Arial"/>
              </a:rPr>
              <a:t>The Maori Force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With limited written evidence estimates of their strength have varied greatly. Cycles of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ncentration and dispersal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were characteristic. On three occasions forces of 1000-2000 men assembled for up to three months. Total Maori mobilisation is estimated as 4000 warrior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is would only have been possible with a high degree of co-operative acti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Leaders wer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 Maniapoto,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Wiremu Tamehan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haua, and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ikaokao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f Ngati Maniapo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1511640" cy="2016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151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Proclamation of W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n 9 July 1864, Grey issued a Proclamation calling on all Maori living north of th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ngatawhiri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river to take the oath of allegiance to Queen Victoria or retire beyond the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ose who resisted were liable to have land confiscated. This did not reach the Waikato until after Cameron's troops had crossed the Mangatawhiri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INVA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invasion commenced with a small victory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ohero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in July 186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ut the advance was then held up for 3 months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by a Defensive line of modern pa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when Cameron finally assembled enough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men to protect his communications and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take Meremere the Maori simply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bandoned i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rom this point on though Cameron's main advantage began to make itself fe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a large and constant flow of resour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Grey's Peace Polic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Grey set up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unang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r new institutions to give the chiefs local administrative powers. When the Maori chiefs did not use it to sell land it lost its appe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45080" y="1598760"/>
            <a:ext cx="40370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Fighting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force used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guerilla tactic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, killing settlers in outlying districts, and attacking communication line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Cameron had to tie up three-quarters of his men in protecting communication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aim was to block Pakeha progress into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Sequence of F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 Maori force of about 1500 men constructed a pa and held up the British advance for 14 weeks, then dispers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 was able to mount a continuous offensive and he caught the Maori army only 1/2 assembled at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the second Maori defensive line, on 20 Novemb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's army was able to take a lightly  held part of the fortifications but seven assaults against the rest failed with 13 casualt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Maori partly evacuated, although 18 were taken prison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Its capture opened up the Waika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Ngaruawahia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ccupied by the British on 9 December. Cameron offered terms which were rej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owever Ngaruawahia held no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military or economic significance,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and Maori did not subm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instead they fortified their third and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 greatest Waikato line -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by-passed by a brilliant British maneuver. This allowed Cameron into the heartland of the Waikato.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angiaowha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as burned and sack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Paterangi was an awesome moden pa with extensive trench systems;  Cameron realised storming it was impossible so he outflanked it in February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is allowed Cameron into the heartland of the Waikat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marched 1200 troops around it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t night and sacked the nearb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Maori town of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Rangiaowh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then withdrew to await the Maor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spon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amihan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knew the superiority of British troops i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regular warfare and so withdrew from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aterang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lin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Paterangi operations gave the British one of the three main agricultural heartlands of the Waikato trib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They also represented the firs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permanently damaging defea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suffered by Maori in the New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Zealand Wa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Orakau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forced into a defensive stand on a un- suitable site, resisted five assaults before attempting an audacious breakout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1728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nd of Waikato War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ameron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decided against advancing further into the rugged hill country of the Ngati Maniapoto. War came to an indecisive end in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y also tried flattery and gifts, his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'flour and sugar'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olicy , but pensions and gifts could not solve the problems of a declining population, social disruption and poverty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Waikato Wars had no satisfying climax so two were inven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One was Orakau which was said to have crushed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King Mov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in fact further modern pa defended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maining economic heartland's of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y were never taken and became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new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aukat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etween what became known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s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ing Country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and the Pakeha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sphe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second occurred at Tauranga, where the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ighting spilled over in 186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War Poli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t the same time Grey prepared for wa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was uneasy about the formidable, independent, central tribes. The limited support the King Movement had given to the Taranaki war had demonstrated its military muscl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built roads into the Waikato and planned for gunboats on the Waikato River. He kept the troops from the Taranaki War, supplementing them with an extra 3000 me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Grey and Cameron made careful preparations for the invasion of the Waika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rmed and armored steamers were acquired for the Waikato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Great South Road and protective forts were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supply organization was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military telegraph linked Auckland to the fro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ree extra regiments and other reinforcements were 'prised' out of the Imperial Govern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meron's revelation to London that Grey's allegedly imminent 'Maori Rebellion' had not persuaded the settlers to spend any money on their own defense came too late to stop the flow of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imperial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ourc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9527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Numbers of </a:t>
            </a:r>
            <a:r>
              <a:rPr b="0" lang="en-NZ" sz="3200" spc="-1" strike="noStrike">
                <a:solidFill>
                  <a:srgbClr val="00cc66"/>
                </a:solidFill>
                <a:latin typeface="Arial"/>
              </a:rPr>
              <a:t>imperial troop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rose from about 8000 in July 1861 to about 12000 in May 1864.  About 3/4's of these troops were available for the Waikato wa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Colonial Government contributed a few hundred 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colonial regu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Forest Rangers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lonial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  Defence Forc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caval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nd a substantial number of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iliti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volunteers from Auck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se were gradually replaced by Military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settlers - The Waikato militia - mainly men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from the Australian and Otago goldfields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on the promise of confiscated Maori 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06:48:41Z</dcterms:created>
  <dc:creator>Administrator</dc:creator>
  <dc:description/>
  <dc:language>en-US</dc:language>
  <cp:lastModifiedBy>John Pipe</cp:lastModifiedBy>
  <dcterms:modified xsi:type="dcterms:W3CDTF">2009-06-11T11:27:48Z</dcterms:modified>
  <cp:revision>6</cp:revision>
  <dc:subject/>
  <dc:title>Slide 1</dc:title>
</cp:coreProperties>
</file>