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4A03-F03B-4D3B-B198-8842D95C6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C013-EC75-428C-A8A6-F39AC4BCE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9B4-6B29-40EA-8804-9911FC9BF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F38-1804-466C-BA33-78618461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724E-C2CE-4EAD-9913-0B25A4E2C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1733-F59E-4B2A-83CF-6D182E27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F7A16-6385-4EFB-94DC-E066AFD00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F7420-C404-466A-BB9A-C265B2373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F692-04CE-42EA-B867-5BD14B327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292E5-F50D-40FD-BED3-EC531CCBA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1769-8736-4366-BAA2-F002662A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042A-1C0C-4334-AF1E-BFB2EFA4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5F1B0-85A1-4300-8DA8-C6620A98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603D2-8B50-4532-A387-CBEBBD01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FDEE-E8C4-4A25-A8A6-D540BB0D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BC54E-1E6A-4063-86EE-E5B94DDBF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873FA-282A-46ED-BDC2-B5E3F2EEC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DDE8-5ED7-4FD0-9E5D-482EB4C77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4985-9EA2-4679-91C4-106359C0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B803-AE9A-4976-AD83-22C4A7AF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35F4-96C3-48C4-9FED-B0141283D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CED-44A3-4F25-B7BB-359BBCC8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E792-F57E-4845-85E5-A0157691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AA74-C8A7-478E-A5BC-169B8F2E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302F7-A2A2-445E-9DC6-EA7F7B219984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65BF0-FCF4-4529-ABCA-CC77F6C4CCBB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5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Events Leading to War</a:t>
            </a:r>
            <a:r>
              <a:rPr b="1" lang="en-NZ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Grey decided the Waitara should be returned to its Maori owners. But first he occupied the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Tataraimaka block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which had been seized by Taranaki tribes. The angry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Atiawa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unsuccessfully ambushed government troops at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Oakura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. The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Waitara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officially returned in May 1863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Grey blamed the Kingites for the Oakura ambush. He also claimed they had a plot to invade Auckland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On 11 July 1863 he ordered the invasion of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Causes of Conflict in the Waikato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long-term cause was the basic antagonism of Maori and Pakeha. The settlers and even the missionaries welcomed war. They wanted to subjugate Maori nationalism. Their argument was that the </a:t>
            </a: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'rule of Pakeha law should prevail'.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Grey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lik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Gore Browne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wanted to establish British authority more effectively. Grey saw the Oakura ambush as a rejection of British authority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6156360" y="1557360"/>
            <a:ext cx="1224000" cy="16556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156360" y="3429000"/>
            <a:ext cx="12240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settlers and financiers coveted the rich lands of the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ffff00"/>
                </a:solidFill>
                <a:uFillTx/>
                <a:latin typeface="Arial"/>
              </a:rPr>
              <a:t>The Opposing Armies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000" spc="-1" strike="noStrike" u="sng">
                <a:solidFill>
                  <a:srgbClr val="ff0000"/>
                </a:solidFill>
                <a:uFillTx/>
                <a:latin typeface="Arial"/>
              </a:rPr>
              <a:t>The British Force</a:t>
            </a:r>
            <a:r>
              <a:rPr b="0" i="1" lang="en-NZ" sz="2000" spc="-1" strike="noStrike">
                <a:solidFill>
                  <a:srgbClr val="eaeaea"/>
                </a:solidFill>
                <a:latin typeface="Arial"/>
              </a:rPr>
              <a:t>:</a:t>
            </a:r>
            <a:r>
              <a:rPr b="1" i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In</a:t>
            </a:r>
            <a:r>
              <a:rPr b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1864 Grey had 14000 men. Of these, 4000 were </a:t>
            </a:r>
            <a:r>
              <a:rPr b="0" lang="en-NZ" sz="2000" spc="-1" strike="noStrike">
                <a:solidFill>
                  <a:srgbClr val="00cc66"/>
                </a:solidFill>
                <a:latin typeface="Arial"/>
              </a:rPr>
              <a:t>colonial force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, 9000 were </a:t>
            </a:r>
            <a:r>
              <a:rPr b="0" lang="en-NZ" sz="2000" spc="-1" strike="noStrike">
                <a:solidFill>
                  <a:srgbClr val="00cc66"/>
                </a:solidFill>
                <a:latin typeface="Arial"/>
              </a:rPr>
              <a:t>Imperial soldier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, a few hundred were pro-British </a:t>
            </a:r>
            <a:r>
              <a:rPr b="0" i="1" lang="en-NZ" sz="2000" spc="-1" strike="noStrike">
                <a:solidFill>
                  <a:srgbClr val="00cc66"/>
                </a:solidFill>
                <a:latin typeface="Arial"/>
              </a:rPr>
              <a:t>Queenites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 (Arawa)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Total mobilisation is estimated at 18 000 men. They were commanded by </a:t>
            </a:r>
            <a:r>
              <a:rPr b="0" lang="en-NZ" sz="2000" spc="-1" strike="noStrike">
                <a:solidFill>
                  <a:srgbClr val="0000ff"/>
                </a:solidFill>
                <a:latin typeface="Arial"/>
              </a:rPr>
              <a:t>Lieutenant- General Cameron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. It</a:t>
            </a:r>
            <a:r>
              <a:rPr b="1" lang="en-NZ" sz="20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000" spc="-1" strike="noStrike">
                <a:solidFill>
                  <a:srgbClr val="eaeaea"/>
                </a:solidFill>
                <a:latin typeface="Arial"/>
              </a:rPr>
              <a:t>was one of the best prepared and organised British campaigns. 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651640" y="2276640"/>
            <a:ext cx="1728720" cy="26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 u="sng">
                <a:solidFill>
                  <a:srgbClr val="ff0000"/>
                </a:solidFill>
                <a:uFillTx/>
                <a:latin typeface="Arial"/>
              </a:rPr>
              <a:t>The Maori Force</a:t>
            </a:r>
            <a:r>
              <a:rPr b="0" i="1" lang="en-NZ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With limited written evidence estimates of their strength have varied greatly. Cycles of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concentration and dispersal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were characteristic. On three occasions forces of 1000-2000 men assembled for up to three months. Total Maori mobilisation is estimated as 4000 warrior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is would only have been possible with a high degree of co-operative action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Leaders wer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ewi Maniapoto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f Ngati Maniapoto,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Wiremu Tamehan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f Ngatihaua, and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Tikaokao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of Ngati Maniapo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1511640" cy="201636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5724360" y="3860640"/>
            <a:ext cx="15116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Proclamation of Wa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On 9 July 1864, Grey issued a Proclamation calling on all Maori living north of the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angatawhiri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river to take the oath of allegiance to Queen Victoria or retire beyond the riv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ose who resisted were liable to have land confiscated. This did not reach the Waikato until after Cameron's troops had crossed the Mangatawhiri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7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animClr clrSpc="rgb">
                                      <p:cBhvr>
                                        <p:cTn id="78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99"/>
                                      </p:to>
                                    </p:animClr>
                                    <p:set>
                                      <p:cBhvr>
                                        <p:cTn id="79" dur="250" autoRev="1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INVA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invasion commenced with a small victory at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Koheroa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in July 1863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But the advance was then held up for 3 months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by a Defensive line of modern pa at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Meremere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when Cameron finally assembled enough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men to protect his communications and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take Meremere the Maori simply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bandoned it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From this point on though Cameron's main advantage began to make itself fel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a large and constant flow of resources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 u="sng">
                <a:solidFill>
                  <a:srgbClr val="ffff00"/>
                </a:solidFill>
                <a:uFillTx/>
                <a:latin typeface="Arial"/>
              </a:rPr>
              <a:t>Grey's Peace Policy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Grey set up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unang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or new institutions to give the chiefs local administrative powers. When the Maori chiefs did not use it to sell land it lost its appeal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4645080" y="1598760"/>
            <a:ext cx="403704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The Fighting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Maori force used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guerilla tactics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, killing settlers in outlying districts, and attacking communication line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Cameron had to tie up three-quarters of his men in protecting communications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Maori aim was to block Pakeha progress into the Waikato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The Sequence of Fight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Meremere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A Maori force of about 1500 men constructed a pa and held up the British advance for 14 weeks, then dispers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Arial"/>
              </a:rPr>
              <a:t>Rangiriri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Cameron was able to mount a continuous offensive and he caught the Maori army only 1/2 assembled at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Rangiriri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the second Maori defensive line, on 20 Novemb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Cameron's army was able to take a lightly  held part of the fortifications but seven assaults against the rest failed with 13 casualties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Maori partly evacuated, although 18 were taken prison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Its capture opened up the Waikato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Ngaruawahia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occupied by the British on 9 December. Cameron offered terms which were reject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owever Ngaruawahia held no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military or economic significance,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and Maori did not submi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instead they fortified their third and 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    greatest Waikato line - </a:t>
            </a: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Paterangi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3200" spc="-1" strike="noStrike">
                <a:solidFill>
                  <a:srgbClr val="ff0000"/>
                </a:solidFill>
                <a:latin typeface="Arial"/>
              </a:rPr>
              <a:t>Paterangi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was by-passed by a brilliant British maneuver. This allowed Cameron into the heartland of the Waikato. </a:t>
            </a: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Rangiaowhai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was burned and sacked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Paterangi was an awesome moden pa with extensive trench systems;  Cameron realised storming it was impossible so he outflanked it in February 1864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is allowed Cameron into the heartland of the Waikato.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He marched 1200 troops around it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t night and sacked the nearby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Maori town of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Rangiaowh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He then withdrew to await the Maor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respons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ffff00"/>
                </a:solidFill>
                <a:latin typeface="Arial"/>
              </a:rPr>
              <a:t>Tamihana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knew the superiority of British troops in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regular warfare and so withdrew from the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Paterang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lin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The Paterangi operations gave the British one of the three main agricultural heartlands of the Waikato trib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32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They also represented the first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permanently damaging defeat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suffered by Maori in the New 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i="1" lang="en-NZ" sz="3200" spc="-1" strike="noStrike">
                <a:solidFill>
                  <a:srgbClr val="eaeaea"/>
                </a:solidFill>
                <a:latin typeface="Arial"/>
              </a:rPr>
              <a:t>     Zealand War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NZ" sz="2800" spc="-1" strike="noStrike">
                <a:solidFill>
                  <a:srgbClr val="ff0000"/>
                </a:solidFill>
                <a:latin typeface="Arial"/>
              </a:rPr>
              <a:t>Orakau</a:t>
            </a:r>
            <a:r>
              <a:rPr b="0" i="1" lang="en-NZ" sz="2800" spc="-1" strike="noStrike">
                <a:solidFill>
                  <a:srgbClr val="eaeaea"/>
                </a:solidFill>
                <a:latin typeface="Arial"/>
              </a:rPr>
              <a:t>: </a:t>
            </a:r>
            <a:r>
              <a:rPr b="0" lang="en-NZ" sz="2800" spc="-1" strike="noStrike">
                <a:solidFill>
                  <a:srgbClr val="ffff00"/>
                </a:solidFill>
                <a:latin typeface="Arial"/>
              </a:rPr>
              <a:t>Rewi Maniapoto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, forced into a defensive stand on a un- suitable site, resisted five assaults before attempting an audacious breakout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5651640" y="2133720"/>
            <a:ext cx="172872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End of Waikato War</a:t>
            </a:r>
            <a:r>
              <a:rPr b="1" lang="en-NZ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ff0000"/>
                </a:solidFill>
                <a:latin typeface="Arial"/>
              </a:rPr>
              <a:t>Cameron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decided against advancing further into the rugged hill country of the Ngati Maniapoto. War came to an indecisive end in 1864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rey also tried flattery and gifts, his </a:t>
            </a:r>
            <a:r>
              <a:rPr b="0" i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'flour and sugar'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policy , but pensions and gifts could not solve the problems of a declining population, social disruption and poverty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Waikato Wars had no satisfying climax so two were invente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One was Orakau which was said to have crushed th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King Mov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in fact further modern pa defended the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remaining economic heartland's of Waik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y were never taken and became the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new </a:t>
            </a:r>
            <a:r>
              <a:rPr b="0" i="1" lang="en-NZ" sz="2400" spc="-1" strike="noStrike">
                <a:solidFill>
                  <a:srgbClr val="ff0000"/>
                </a:solidFill>
                <a:latin typeface="Arial"/>
              </a:rPr>
              <a:t>aukati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between what became known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as the </a:t>
            </a:r>
            <a:r>
              <a:rPr b="0" lang="en-NZ" sz="2400" spc="-1" strike="noStrike">
                <a:solidFill>
                  <a:srgbClr val="ff0000"/>
                </a:solidFill>
                <a:latin typeface="Arial"/>
              </a:rPr>
              <a:t>King Country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and the Pakeha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sphere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400" spc="-1" strike="noStrike">
                <a:solidFill>
                  <a:srgbClr val="eaeaea"/>
                </a:solidFill>
                <a:latin typeface="Symbol"/>
                <a:ea typeface="Symbol"/>
              </a:rPr>
              <a:t>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The second occurred at Tauranga, where the Waikat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         </a:t>
            </a:r>
            <a:r>
              <a:rPr b="0" lang="en-NZ" sz="2400" spc="-1" strike="noStrike">
                <a:solidFill>
                  <a:srgbClr val="eaeaea"/>
                </a:solidFill>
                <a:latin typeface="Arial"/>
              </a:rPr>
              <a:t>fighting spilled over in 1864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9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9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900" fill="hold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 u="sng">
                <a:solidFill>
                  <a:srgbClr val="ffff00"/>
                </a:solidFill>
                <a:uFillTx/>
                <a:latin typeface="Arial"/>
              </a:rPr>
              <a:t>War Polic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At the same time Grey prepared for wa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e was uneasy about the formidable, independent, central tribes. The limited support the King Movement had given to the Taranaki war had demonstrated its military muscle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He built roads into the Waikato and planned for gunboats on the Waikato River. He kept the troops from the Taranaki War, supplementing them with an extra 3000 me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00cc66"/>
                </a:solidFill>
                <a:latin typeface="Arial"/>
              </a:rPr>
              <a:t>Grey and Cameron made careful preparations for the invasion of the Waikat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rmed and armored steamers were acquired for the Waikato river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Great South Road and protective forts were buil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 supply organization was buil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 military telegraph linked Auckland to the front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ree extra regiments and other reinforcements were 'prised' out of the Imperial Government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370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ameron's revelation to London that Grey's allegedly imminent 'Maori Rebellion' had not persuaded the settlers to spend any money on their own defense came too late to stop the flow of </a:t>
            </a:r>
            <a:r>
              <a:rPr b="0" lang="en-US" sz="2800" spc="-1" strike="noStrike">
                <a:solidFill>
                  <a:srgbClr val="00cc66"/>
                </a:solidFill>
                <a:latin typeface="Arial"/>
              </a:rPr>
              <a:t>imperial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sources.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4788000" y="1916280"/>
            <a:ext cx="2952720" cy="32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Numbers of </a:t>
            </a:r>
            <a:r>
              <a:rPr b="0" lang="en-NZ" sz="3200" spc="-1" strike="noStrike">
                <a:solidFill>
                  <a:srgbClr val="00cc66"/>
                </a:solidFill>
                <a:latin typeface="Arial"/>
              </a:rPr>
              <a:t>imperial troops</a:t>
            </a:r>
            <a:r>
              <a:rPr b="0" lang="en-NZ" sz="3200" spc="-1" strike="noStrike">
                <a:solidFill>
                  <a:srgbClr val="eaeaea"/>
                </a:solidFill>
                <a:latin typeface="Arial"/>
              </a:rPr>
              <a:t> rose from about 8000 in July 1861 to about 12000 in May 1864.  About 3/4's of these troops were available for the Waikato wa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400" spc="-1" strike="noStrike">
                <a:solidFill>
                  <a:srgbClr val="ccecff"/>
                </a:solidFill>
                <a:latin typeface="Arial"/>
              </a:rPr>
              <a:t>War in the Waikat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Colonial Government contributed a few hundred </a:t>
            </a:r>
            <a:r>
              <a:rPr b="0" lang="en-NZ" sz="2800" spc="-1" strike="noStrike">
                <a:solidFill>
                  <a:srgbClr val="00cc66"/>
                </a:solidFill>
                <a:latin typeface="Arial"/>
              </a:rPr>
              <a:t>colonial regula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Forest Rangers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and the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Colonial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  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	</a:t>
            </a:r>
            <a:r>
              <a:rPr b="0" i="1" lang="en-NZ" sz="2800" spc="-1" strike="noStrike">
                <a:solidFill>
                  <a:srgbClr val="00cc66"/>
                </a:solidFill>
                <a:latin typeface="Arial"/>
              </a:rPr>
              <a:t>    Defence Force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caval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and a substantial number of </a:t>
            </a:r>
            <a:r>
              <a:rPr b="0" lang="en-NZ" sz="2800" spc="-1" strike="noStrike">
                <a:solidFill>
                  <a:srgbClr val="ff0000"/>
                </a:solidFill>
                <a:latin typeface="Arial"/>
              </a:rPr>
              <a:t>militia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and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volunteers from Auck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These were gradually replaced by Military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settlers - The Waikato militia - mainly men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from the Australian and Otago goldfields 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NZ" sz="2800" spc="-1" strike="noStrike">
                <a:solidFill>
                  <a:srgbClr val="eaeaea"/>
                </a:solidFill>
                <a:latin typeface="Arial"/>
              </a:rPr>
              <a:t>    on the promise of confiscated Maori land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8T06:48:41Z</dcterms:created>
  <dc:creator>Administrator</dc:creator>
  <dc:description/>
  <dc:language>en-US</dc:language>
  <cp:lastModifiedBy>John Pipe</cp:lastModifiedBy>
  <dcterms:modified xsi:type="dcterms:W3CDTF">2009-06-11T11:27:48Z</dcterms:modified>
  <cp:revision>6</cp:revision>
  <dc:subject/>
  <dc:title>Slide 1</dc:title>
</cp:coreProperties>
</file>