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282-3CB4-42D4-801D-A22F16D6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579-9928-4C98-8452-56426F4C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251-1605-4344-A4AF-4ED2371C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20A-5020-42A8-A095-1E5270E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52A7B-4BDB-40E6-9306-6A54F4C3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E504-C582-4214-AFBB-34ADB2C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6D21E-2C4B-45E8-A6E8-B2198E5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EBA05-1794-4754-AEB5-0D50380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952A-0405-4973-AB5F-50729803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D97B4-EE1D-4C91-9BCD-CE8B0960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57F8A-C582-4D5E-9F38-ED23A69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07D-686B-4626-83CF-FA5A6A5F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F8924-7805-4A68-A55F-C46C775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49080-A80D-4DAE-A1F8-281B48B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1E508-8999-4775-B150-BEC82B5E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F698C-3054-404C-9BEF-EB4443E3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C110-356F-49E1-B1DF-873EEC3C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294-627A-44F7-9F63-48412BF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3F3-D77B-4C4A-A354-C2E3BB6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974-85D3-494B-BA01-BB0C883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B62-CF4B-48FE-9A25-1DDE8A1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5A9-DE7E-4903-8CB7-FF2E01F0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7EB-614C-4862-806B-70B8B01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DAA-CF98-4E9A-A168-612935A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EC32-B333-4460-BF4E-79F8055B2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53CC-5B5D-40E6-8A78-B59C44EB3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050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10440" algn="ctr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28083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ways hear "the rules" from the female side. Now here are the rules  from the male sid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e to us with a problem only if you want help solving it. That's what we do. Sympathy is what your girlfriends are 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dache that lasts for 17 months is a problem. See a do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ything we said 6 months ago is inadmissible in an argument. In fact, all comments become null and void after 7 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think you're fat, you probably are. Don't ask 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something we said can be interpreted two ways, and one of the ways makes you sad or angry, we meant the other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either ask us to do something or tell us how you want it d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 bo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lready know best how to do it, just do it yoursel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ever possible, please say whatever you have to say during commerci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opher Columbus did not need directions and neither do w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 men see in only 16 colours, like Windows default setting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h, for example, is a fruit, not a colour. Pumpkin is also a fru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have no idea what mauve 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it itches, it will be scratched. We do tha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our ru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lease note... these are all numbered "1" ON PURPOS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we ask what is wrong and you say "nothing," we will act like nothing's wrong. We know you are lying, but it is just not worth the has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sk a question you don't want an answer to, expect an answer you don't want to h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we have to go somewhere, absolutely anything you wear is fine, Real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't ask us what we're thinking about unless you are prepared to discuss such topics a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x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rt, 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enough clot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too many sh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am in shape. Round is a shap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nk you for reading this; Yes, I know, I have to sleep on t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ch tonight, but did you know men really don't mind that, it's like camp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men as you can - to give them a laug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2008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women as you can - to give them an edu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asts are for looking at and that is why we do it. Don't try to change th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rn to work the toilet seat. You're a big girl. If it's up, put it down. We need it up, you need it down. You don't hear us complaining about you leaving it dow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turday = sports. It's like the full moon or the changing of the tides. Let it 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ping is NOT a sport. And no, we are never going to think of it that wa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ying is blackmai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k for what you want. Let us be clear on this on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tle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vious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JUST SAY I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es’ and ‘No’ are perfectly acceptable answers to almost every que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3:41:52Z</dcterms:created>
  <dc:creator>wfmimp22</dc:creator>
  <dc:description/>
  <dc:language>en-US</dc:language>
  <cp:lastModifiedBy>wfmimp22</cp:lastModifiedBy>
  <dcterms:modified xsi:type="dcterms:W3CDTF">2004-08-09T13:58:23Z</dcterms:modified>
  <cp:revision>2</cp:revision>
  <dc:subject/>
  <dc:title>We always hear "the rules" from the female side. Now here are the rules  from the male side.</dc:title>
</cp:coreProperties>
</file>