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2119-F838-46E5-B6AC-4A4B1E18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B7FB-D0F7-49C7-8138-EBFF8BD68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C24F-B7BF-4323-965B-47601712B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3A86-C202-4362-88D7-1EE4FC5C0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35169-E28D-4AC9-AB1E-B926840CE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D99167-7813-495E-ACF5-707CC3CE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408BC5-E733-4B36-B3D1-D5CF87BE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DA3B52-3874-4FCF-8343-2C085025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2F3A33-7381-4E59-94DA-175E7F37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F9A3-0CD2-455D-9E33-9E52ADB1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D93324-4211-46DD-B56A-28D446CC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B03C-E514-4BA3-B51B-39AEC2A3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63BEF-EFD4-42F9-9F98-6ADC3AEE3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525C48-5181-433B-BA4E-14767DE0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FAE9A-F112-4C47-9B04-30BF7939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100360-40FB-4AE7-A3D1-7057CBBB5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4F6A76-2E36-45D6-849A-650941DE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6B3D-DA29-4F42-8B5C-F36E3E25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63ED-7012-467C-AB5C-8D9A7BBD3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5D09-B284-4110-9DE3-ADBB647C7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EEEF-CEE4-4FF3-A18A-0BFD59C1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E329-D980-40D7-9B03-518CD6932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8E78-1A97-4D5B-99B1-D5474514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A824-87D8-43E6-8CB2-45D073FC5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6F030-9959-4DAF-A31A-0C9B3DE7C3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6B9D4-FE49-4154-B827-BE55F30C87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050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10440" algn="ctr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28083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ways hear "the rules" from the female side. Now here are the rules  from the male sid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e to us with a problem only if you want help solving it. That's what we do. Sympathy is what your girlfriends are 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dache that lasts for 17 months is a problem. See a do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ything we said 6 months ago is inadmissible in an argument. In fact, all comments become null and void after 7 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think you're fat, you probably are. Don't ask 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something we said can be interpreted two ways, and one of the ways makes you sad or angry, we meant the other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either ask us to do something or tell us how you want it d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 bo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lready know best how to do it, just do it yoursel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ever possible, please say whatever you have to say during commerci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opher Columbus did not need directions and neither do w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 men see in only 16 colours, like Windows default setting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h, for example, is a fruit, not a colour. Pumpkin is also a fru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have no idea what mauve 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it itches, it will be scratched. We do tha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our ru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lease note... these are all numbered "1" ON PURPOS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we ask what is wrong and you say "nothing," we will act like nothing's wrong. We know you are lying, but it is just not worth the has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sk a question you don't want an answer to, expect an answer you don't want to h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we have to go somewhere, absolutely anything you wear is fine, Real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't ask us what we're thinking about unless you are prepared to discuss such topics a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x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rt, 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enough clot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too many sh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am in shape. Round is a shap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nk you for reading this; Yes, I know, I have to sleep on t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ch tonight, but did you know men really don't mind that, it's like camp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men as you can - to give them a laug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2008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women as you can - to give them an edu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asts are for looking at and that is why we do it. Don't try to change th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rn to work the toilet seat. You're a big girl. If it's up, put it down. We need it up, you need it down. You don't hear us complaining about you leaving it dow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turday = sports. It's like the full moon or the changing of the tides. Let it 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ping is NOT a sport. And no, we are never going to think of it that wa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ying is blackmai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k for what you want. Let us be clear on this on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tle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vious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JUST SAY I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es’ and ‘No’ are perfectly acceptable answers to almost every que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3:41:52Z</dcterms:created>
  <dc:creator>wfmimp22</dc:creator>
  <dc:description/>
  <dc:language>en-US</dc:language>
  <cp:lastModifiedBy>wfmimp22</cp:lastModifiedBy>
  <dcterms:modified xsi:type="dcterms:W3CDTF">2004-08-09T13:58:23Z</dcterms:modified>
  <cp:revision>2</cp:revision>
  <dc:subject/>
  <dc:title>We always hear "the rules" from the female side. Now here are the rules  from the male side.</dc:title>
</cp:coreProperties>
</file>