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743F-CB57-4BF9-894E-AB9209D8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E9EE-C609-4C2E-8275-4363AAF0E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35DC-C193-412E-8D7B-2B0FA34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3F91-F0A4-4F6E-9CD8-AD086542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1440D1-C6E9-430B-AA89-DB8A4EFA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EF4AA-E42C-4CDD-939D-BE50B6C9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27F1D6-4811-472E-A962-9EDBC9680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2F02D3-D963-4F2C-A741-94E5954E7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991AF4-B131-401F-88DA-7D347B1F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13DCFD-FE3D-4178-971B-81AE3E2F4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78303-96BC-42DF-848E-0A282FF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C433-6FE6-478C-8F45-A0273527F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044D50-DE87-4DAA-8712-C947CC4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798506-E85C-45FB-910B-2D664D7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107B5-0ED7-497E-BFAB-C4BC1EF65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795B3-55A7-4251-B947-D1F869180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8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58F1E3-B8ED-4DA8-AE01-DAD6FCBCE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8F22-95F8-44A8-ACE4-7B357C39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37E9-8A3A-4794-88EC-9081E6A9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52C2-EF17-4B0A-A116-570E65F19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  <a:effectLst>
            <a:outerShdw dist="64600" dir="20925162" blurRad="0" rotWithShape="0">
              <a:srgbClr val="010199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27C6-DDC6-48D5-B264-97917082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EE71-75C5-433B-9A48-3FCFF325A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4320E-1814-46B9-BEA8-A55386611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5ADB-09F9-4C5E-AC87-418B07B3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594360" indent="-22860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2" marL="914400" indent="-1828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3" marL="1280160" indent="-182880">
              <a:spcBef>
                <a:spcPts val="10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4" marL="1645920" indent="-182880"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5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6" marL="1645920" indent="-182880">
              <a:spcBef>
                <a:spcPts val="1001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590A-D76D-448C-BDC8-E0804364E9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49213-5268-41CD-8756-DD99A021B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45252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2" marL="90504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357560" algn="ctr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1810440" algn="ctr"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181044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2060280"/>
            <a:ext cx="7772400" cy="280836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e always hear "the rules" from the female side. Now here are the rules  from the male side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e to us with a problem only if you want help solving it. That's what we do. Sympathy is what your girlfriends are f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 headache that lasts for 17 months is a problem. See a docto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nything we said 6 months ago is inadmissible in an argument. In fact, all comments become null and void after 7 day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think you're fat, you probably are. Don't ask u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something we said can be interpreted two ways, and one of the ways makes you sad or angry, we meant the other 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can either ask us to do something or tell us how you want it do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t bot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lready know best how to do it, just do it yourself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ever possible, please say whatever you have to say during commercial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hristopher Columbus did not need directions and neither do w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LL men see in only 16 colours, like Windows default setting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ach, for example, is a fruit, not a colour. Pumpkin is also a frui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e have no idea what mauve i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it itches, it will be scratched. We do tha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se are our rules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Please note... these are all numbered "1" ON PURPOSE!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we ask what is wrong and you say "nothing," we will act like nothing's wrong. We know you are lying, but it is just not worth the hass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f you ask a question you don't want an answer to, expect an answer you don't want to hear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n we have to go somewhere, absolutely anything you wear is fine, Reall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on't ask us what we're thinking about unless you are prepared to discuss such topics as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ex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Sport, o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9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ar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enough cloth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ou have too many sho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 am in shape. Round is a shap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ank you for reading this; Yes, I know, I have to sleep on th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uch tonight, but did you know men really don't mind that, it's like camping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men as you can - to give them a laugh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11280" y="2565360"/>
            <a:ext cx="7772400" cy="2008080"/>
          </a:xfrm>
          <a:prstGeom prst="rect">
            <a:avLst/>
          </a:prstGeom>
          <a:noFill/>
          <a:ln w="0">
            <a:noFill/>
          </a:ln>
          <a:effectLst>
            <a:outerShdw dist="71785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ss this to as many women as you can - to give them an educa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reasts are for looking at and that is why we do it. Don't try to change th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arn to work the toilet seat. You're a big girl. If it's up, put it down. We need it up, you need it down. You don't hear us complaining about you leaving it down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aturday = sports. It's like the full moon or the changing of the tides. Let it b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opping is NOT a sport. And no, we are never going to think of it that way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rying is blackmail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sk for what you want. Let us be clear on this one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ubtle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trong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Obvious hints do not work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ffff"/>
                </a:solidFill>
                <a:uFillTx/>
                <a:latin typeface="Tahoma"/>
              </a:rPr>
              <a:t>JUST SAY IT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45929" dir="14171123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10199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‘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Yes’ and ‘No’ are perfectly acceptable answers to almost every questio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9T13:41:52Z</dcterms:created>
  <dc:creator>wfmimp22</dc:creator>
  <dc:description/>
  <dc:language>en-US</dc:language>
  <cp:lastModifiedBy>wfmimp22</cp:lastModifiedBy>
  <dcterms:modified xsi:type="dcterms:W3CDTF">2004-08-09T13:58:23Z</dcterms:modified>
  <cp:revision>2</cp:revision>
  <dc:subject/>
  <dc:title>We always hear "the rules" from the female side. Now here are the rules  from the male side.</dc:title>
</cp:coreProperties>
</file>