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603-D478-418D-B44D-04C7FBC2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6F6-2E6C-42D2-8D7C-837D2C02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7C5-4265-4218-BD1C-AC20418B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EF9-9D99-4585-B472-A801494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14F8-C0CC-4D4F-8E4F-D245EE3D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F2C5-4140-42D4-AB2D-96AA5FA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E8861-D8D4-4FA7-83B6-BD1454A1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394A-D4EA-45E4-9860-447E049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FB15C-9B40-42D2-BC88-560A2E7C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447D3-5E6E-47E3-B5B6-D64CD7E3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00F1C-1509-4CEB-BA54-7223F7C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B94-8112-4DFA-B63A-08430582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9B4F-9144-44E9-99F8-90215341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0B17F-F566-4C6B-B1A0-71796E9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EA926-6BA7-4527-A95E-0AEC0B96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5F103-46EC-4C65-B28C-E7686B1F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9842-1C48-447F-ABFC-8FCE9189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833-4152-45AA-AD08-AC060741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B3D-6E7A-45B1-A109-A6D5A4D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284-BFDC-4807-A265-C6B080FA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09C-AC19-483C-A453-E7C3612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D33-BEDC-4395-9029-2003ABB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925-8D21-4755-9721-4BAC45F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447-6923-4D87-94D6-005D720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DC87-7426-47D2-A12E-AF2210B4F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5253-2EC4-4530-B3BA-44BDC6BD3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90504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5756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10440" algn="ctr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28083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ways hear "the rules" from the female side. Now here are the rules  from the male sid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e to us with a problem only if you want help solving it. That's what we do. Sympathy is what your girlfriends are f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headache that lasts for 17 months is a problem. See a do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ything we said 6 months ago is inadmissible in an argument. In fact, all comments become null and void after 7 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think you're fat, you probably are. Don't ask 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something we said can be interpreted two ways, and one of the ways makes you sad or angry, we meant the other 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 either ask us to do something or tell us how you want it d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 bot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lready know best how to do it, just do it yoursel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ever possible, please say whatever you have to say during commerci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ristopher Columbus did not need directions and neither do w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L men see in only 16 colours, like Windows default setting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h, for example, is a fruit, not a colour. Pumpkin is also a frui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have no idea what mauve i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it itches, it will be scratched. We do tha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se are our ru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lease note... these are all numbered "1" ON PURPOS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we ask what is wrong and you say "nothing," we will act like nothing's wrong. We know you are lying, but it is just not worth the hass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sk a question you don't want an answer to, expect an answer you don't want to h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we have to go somewhere, absolutely anything you wear is fine, Real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't ask us what we're thinking about unless you are prepared to discuss such topics a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x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rt, 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enough clot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too many sho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am in shape. Round is a shap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nk you for reading this; Yes, I know, I have to sleep on t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ch tonight, but did you know men really don't mind that, it's like camp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men as you can - to give them a laug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2008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women as you can - to give them an edu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easts are for looking at and that is why we do it. Don't try to change th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arn to work the toilet seat. You're a big girl. If it's up, put it down. We need it up, you need it down. You don't hear us complaining about you leaving it dow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turday = sports. It's like the full moon or the changing of the tides. Let it 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pping is NOT a sport. And no, we are never going to think of it that wa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ying is blackmai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k for what you want. Let us be clear on this on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btle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ong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bvious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JUST SAY I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es’ and ‘No’ are perfectly acceptable answers to almost every ques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3:41:52Z</dcterms:created>
  <dc:creator>wfmimp22</dc:creator>
  <dc:description/>
  <dc:language>en-US</dc:language>
  <cp:lastModifiedBy>wfmimp22</cp:lastModifiedBy>
  <dcterms:modified xsi:type="dcterms:W3CDTF">2004-08-09T13:58:23Z</dcterms:modified>
  <cp:revision>2</cp:revision>
  <dc:subject/>
  <dc:title>We always hear "the rules" from the female side. Now here are the rules  from the male side.</dc:title>
</cp:coreProperties>
</file>