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5437-0815-4344-9CC4-3B3C1B2B1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79E5-5F49-4F8B-9A77-E812B8FF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616F-E20F-4893-9BE0-04F1DF06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F930-FD60-48D3-9E90-65FD7859B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AD2F-C657-42F3-A5A1-7CA1741F7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1AB0-6D1D-4DFC-B813-B815C05D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159-F993-4ADA-BA5C-C28E76A2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1659-BA1A-42E8-BB41-E483DF90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0A0C-FC02-4B67-87FF-FA02A603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A80-34E8-4402-91E7-F1A25214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B202-655B-4143-BFCD-03B45D7D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D77C-F800-410F-B2B2-382292E17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B9560-225F-4EAA-AEBB-50643A656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Part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238880" y="2924280"/>
            <a:ext cx="1905120" cy="371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55640" y="1125360"/>
            <a:ext cx="727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e-1840 Maori/Pakeha Relatio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travellers often ill-treated on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aw Bri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European travellers and sojou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wh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eh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ori women/w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4621320"/>
            <a:ext cx="4044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 seen as good for 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rived from presence of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ori control over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ess to Europeans’ trade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10 Maori scrambled for mus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ket wars spread in 1820s-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Maori migration to avoid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destruction than traditional 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ket did not respect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weapons still used dense bush and hand-to-hand f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164360" y="71280"/>
            <a:ext cx="178272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gi H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a Pu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of Nga Puhi by Ngati Whaua in 1810 gave Hongi Hika desire for u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ght European contact from 18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ajor leader to use mus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laves to cultivate potatos to trade for mus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0 traded gifts from England for muskets in Syd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1-23 led many campaigns until death in 18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 Raupara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ati Toa and Ngati Raukawa De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tanding leader of hi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ened by Waikato tribes in lat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arly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d from Hauraki Gulf to Taranaki and Cook Str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19 was using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20 under pressure from Waikato, left migration to Taranaki and then Kap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 Rauparaha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base in Kap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lavs to build flax plantations and traded with Europeans for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t. 1827 began series of raids on South Island to gain Poun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0s consolidated hold on central North Island, southern North Island and northern South Is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Balance of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 all tribes had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30s new balance of tribal power based on muskets rather than traditional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continued through 1830s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ion less than during 182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Graham Langton, (2005) Pre-1840 Maori/Pakeha Rel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ar 13 – New Zealand in the 19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uckland: ESA Publications. pp.43-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keha attitudes of supe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difference between societies and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onomics: exchange, trade and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choices about interaction and relationship with Pakeha were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uropean presence after 183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80000" y="3341520"/>
            <a:ext cx="3564000" cy="3516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ace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urocentric: Europeans considered other races inferi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alanced: Modern 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utual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limited, h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influe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from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4720" cy="24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ulture Cont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558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Cook 1769-1777 – barter and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ried force at times but that worked against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visits were ir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d to competition amongst Maori for European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27640" y="5073480"/>
            <a:ext cx="27180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cont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akeha escaped convicts and runaway sai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ney entrepreneurs and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requent after 1800 – whalers &amp; sealers &amp; 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visited Sydney after 1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aries and trade after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48436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willing to adopt and ad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attitudes depended on intentions of vi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nteraction on ships or going overseas – sudden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interaction by Maori or Maori-Pakeha which led to more controlled change and easier to cop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, women, labour, artifacts, knowledge, NZ travel, protection,timber, flax,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, muskets, boats, overseas travel, new crops, clothing, alcohol, tobaccao,literacy,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84720" y="36360"/>
            <a:ext cx="3059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and Nego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and change involved Choice and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:- because of strength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onfidence in their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:- assumption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ity and profit mo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8880" y="3146400"/>
            <a:ext cx="1905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: 1800-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visitors and Pakeha assumed dominance of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 Maori dominant up until 184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utnumbered Pakeha until 18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dominance led to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trade contro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ssion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99360" y="3933720"/>
            <a:ext cx="1844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21:29Z</dcterms:created>
  <dc:creator>schoolhistory.co.nz</dc:creator>
  <dc:description/>
  <dc:language>en-US</dc:language>
  <cp:lastModifiedBy>isea.co.nz</cp:lastModifiedBy>
  <dcterms:modified xsi:type="dcterms:W3CDTF">2009-07-29T04:00:26Z</dcterms:modified>
  <cp:revision>7</cp:revision>
  <dc:subject/>
  <dc:title>Pre-1840 Maori/Pakeha Relations</dc:title>
</cp:coreProperties>
</file>