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967C-2500-4761-A75D-7B9524EA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FAB7-F724-4899-9AEB-06B3DE24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2AF-710C-4829-916A-7231CB39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F4F-3D96-4176-8E17-78DFB608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ED1-DE65-43E3-BDD1-767F570C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8FC8-6D0F-4657-9B61-1E13AD08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42E2-4682-4518-855D-3BBFABB9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7A3B-FD56-4EFE-90EA-1C2BBCED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A17D-C96B-4B21-9907-E4C02924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CAF-31A4-40A7-9BD1-D11A093E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2AD-6419-48B7-B12A-03EEDDF2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7444-2881-462A-8732-0DEFCA2F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7AFC-2FC3-4321-8AA8-093E580F6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Part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238880" y="2924280"/>
            <a:ext cx="1905120" cy="371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755640" y="1125360"/>
            <a:ext cx="7272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e-1840 Maori/Pakeha Relation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travellers often ill-treated on 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aw British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European travellers and sojou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ea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wha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r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akeha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ori women/w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59280" y="4621320"/>
            <a:ext cx="40449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s seen as good for 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rived from presence of Europ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ori control over Europ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ccess to Europeans’ trade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10 Maori scrambled for musk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ket wars spread in 1820s-3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Maori migration to avoid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destruction than traditional weap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ket did not respect 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weapons still used dense bush and hand-to-hand f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164360" y="71280"/>
            <a:ext cx="178272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gi H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a Pu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at of Nga Puhi by Ngati Whaua in 1810 gave Hongi Hika desire for u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ght European contact from 18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major leader to use mus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slaves to cultivate potatos to trade for mus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0 traded gifts from England for muskets in Syd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1-23 led many campaigns until death in 18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 Raupara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ati Toa and Ngati Raukawa De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tanding leader of his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tened by Waikato tribes in late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arly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ured from Hauraki Gulf to Taranaki and Cook Str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819 was using mus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20 under pressure from Waikato, left migration to Taranaki and then Kapi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2484360" cy="186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 Rauparaha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base in Kap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slavs to build flax plantations and traded with Europeans for mus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t. 1827 began series of raids on South Island to gain Poun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30s consolidated hold on central North Island, southern North Island and northern South Is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Balance of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ally all tribes had mus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830s new balance of tribal power based on muskets rather than traditional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continued through 1830s 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ruction less than during 182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 Graham Langton, (2005) Pre-1840 Maori/Pakeha Relation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ar 13 – New Zealand in the 19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Auckland: ESA Publications. pp.43-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Infl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keha attitudes of supe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d difference between societies and cul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onomics: exchange, trade and explo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choices about interaction and relationship with Pakeha were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European presence after 183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580000" y="3341520"/>
            <a:ext cx="3564000" cy="3516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Race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urocentric: Europeans considered other races inferi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Balanced: Modern 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utual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limited, h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influenc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from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44720" cy="2492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Culture Conta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558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Cook 1769-1777 – barter and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ried force at times but that worked against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visits were irre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led to competition amongst Maori for European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227640" y="5073480"/>
            <a:ext cx="27180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conta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Pakeha escaped convicts and runaway sai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ney entrepreneurs and tr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requent after 1800 – whalers &amp; sealers &amp; ti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visited Sydney after 18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aries and trade after 18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48436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willing to adopt and ada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attitudes depended on intentions of vi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interaction on ships or going overseas – sudden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 interaction by Maori or Maori-Pakeha which led to more controlled change and easier to cope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, women, labour, artifacts, knowledge, NZ travel, protection,timber, flax,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, muskets, boats, overseas travel, new crops, clothing, alcohol, tobaccao,literacy, 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84720" y="36360"/>
            <a:ext cx="3059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and Nego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 and change involved Choice and Nego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:- because of strength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confidence in their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:- assumption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ority and profit mo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238880" y="3146400"/>
            <a:ext cx="1905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ce : 1800-18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visitors and Pakeha assumed dominance of their own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actice Maori dominant up until 184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utnumbered Pakeha until 18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 for dominance led to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 for trade contro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ssion on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299360" y="3933720"/>
            <a:ext cx="1844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2:21:29Z</dcterms:created>
  <dc:creator>schoolhistory.co.nz</dc:creator>
  <dc:description/>
  <dc:language>en-US</dc:language>
  <cp:lastModifiedBy>isea.co.nz</cp:lastModifiedBy>
  <dcterms:modified xsi:type="dcterms:W3CDTF">2009-07-29T04:00:26Z</dcterms:modified>
  <cp:revision>7</cp:revision>
  <dc:subject/>
  <dc:title>Pre-1840 Maori/Pakeha Relations</dc:title>
</cp:coreProperties>
</file>