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708-177D-44E0-9506-0AC771415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920-4A7D-4AA6-B6EB-DFDE8A49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3B84-5309-4BCE-BED0-CB2E2752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D537-8F36-4621-8DBD-B10BD3D9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5869-F284-4944-9E73-998A40AB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D7F4-118B-4891-B6D3-E9201CDFB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2B8F-0EBD-48AB-9FA3-893429CB4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D363-3C37-44E9-9CE1-CB9FA396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BB9-E926-49F2-9F87-DD4D8DEC7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155F-DDA1-448B-9680-243EA32F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38D8-CCCD-4E63-BDFC-30F0CB80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8C0D-8286-4CD0-B258-914EB6A6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225D-A7A4-444B-AF09-23850AFE0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9900"/>
                </a:solidFill>
                <a:latin typeface="Arial"/>
              </a:rPr>
              <a:t>Part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238880" y="2924280"/>
            <a:ext cx="1905120" cy="371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755640" y="1125360"/>
            <a:ext cx="727236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Pre-1840 Maori/Pakeha Relation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travellers often ill-treated on 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aw British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European travellers and sojour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Sea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 wha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r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Pakeha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ori women/w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59280" y="4621320"/>
            <a:ext cx="40449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s seen as good for ma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derived from presence of Europ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Maori control over Europ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Access to Europeans’ trade go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10 Maori scrambled for muske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ket wars spread in 1820s-3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d Maori migration to avoid at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destruction than traditional weap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ket did not respect ra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itional weapons still used dense bush and hand-to-hand figh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7164360" y="71280"/>
            <a:ext cx="1782720" cy="35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ngi Hi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ga Puh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eat of Nga Puhi by Ngati Whaua in 1810 gave Hongi Hika desire for u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ught European contact from 18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major leader to use mus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slaves to cultivate potatos to trade for mus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0 traded gifts from England for muskets in Syd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21-23 led many campaigns until death in 18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227640" y="0"/>
            <a:ext cx="2916360" cy="20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 Raupara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gati Toa and Ngati Raukawa Dec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standing leader of his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tened by Waikato tribes in late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arly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tured from Hauraki Gulf to Taranaki and Cook Str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819 was using mus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820 under pressure from Waikato, left migration to Taranaki and then Kapit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659640" y="333360"/>
            <a:ext cx="2484360" cy="186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9672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 Rauparaha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up base in Kapi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slavs to build flax plantations and traded with Europeans for mus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t. 1827 began series of raids on South Island to gain Pouna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30s consolidated hold on central North Island, southern North Island and northern South Isl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Balance of P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ntually all tribes had mus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1830s new balance of tribal power based on muskets rather than traditional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 continued through 1830s b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truction less than during 182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 Graham Langton, (2005) Pre-1840 Maori/Pakeha Relations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Year 13 – New Zealand in the 19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Auckland: ESA Publications. pp.43-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 of Influ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keha attitudes of superi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d difference between societies and cul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onomics: exchange, trade and explo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choices about interaction and relationship with Pakeha were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European presence after 183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5580000" y="3341520"/>
            <a:ext cx="3564000" cy="35164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 Race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urocentric: Europeans considered other races inferior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Balanced: Modern 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utual understa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be limited, h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tual influence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ing from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44720" cy="24922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Culture Conta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558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Cook 1769-1777 – barter and ex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tried force at times but that worked against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visits were irreg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led to competition amongst Maori for European goo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227640" y="5073480"/>
            <a:ext cx="2718000" cy="18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ular contact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ly Pakeha escaped convicts and runaway sail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dney entrepreneurs and tra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frequent after 1800 – whalers &amp; sealers &amp; ti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visited Sydney after 18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ssionaries and trade after 18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484360" cy="18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willing to adopt and ada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attitudes depended on intentions of vis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interaction on ships or going overseas – sudden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 interaction by Maori or Maori-Pakeha which led to more controlled change and easier to cope wi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524720" y="0"/>
            <a:ext cx="16192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, women, labour, artifacts, knowledge, NZ travel, protection,timber, flax, 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l, muskets, boats, overseas travel, new crops, clothing, alcohol, tobaccao,literacy, reli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84720" y="36360"/>
            <a:ext cx="3059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oice and Negot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on and change involved Choice and Negot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:- because of strength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confidence in their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:- assumptions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iority and profit mo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7238880" y="3146400"/>
            <a:ext cx="1905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minance : 1800-18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ropean visitors and Pakeha assumed dominance of their own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actice Maori dominant up until 184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outnumbered Pakeha until 185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 for dominance led to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re for trade control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ssion on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299360" y="3933720"/>
            <a:ext cx="1844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8T22:21:29Z</dcterms:created>
  <dc:creator>schoolhistory.co.nz</dc:creator>
  <dc:description/>
  <dc:language>en-US</dc:language>
  <cp:lastModifiedBy>isea.co.nz</cp:lastModifiedBy>
  <dcterms:modified xsi:type="dcterms:W3CDTF">2009-07-29T04:00:26Z</dcterms:modified>
  <cp:revision>7</cp:revision>
  <dc:subject/>
  <dc:title>Pre-1840 Maori/Pakeha Relations</dc:title>
</cp:coreProperties>
</file>