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D03-A136-44EB-B159-94F058EE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6FC-7FB2-467E-9970-E495C8FE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BCF-413E-42D4-AFB1-D5B79C87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837-C2FA-4C3A-A373-E20C70B7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5AD-EF98-4275-87AA-C51D4028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6F4-830D-4237-A3C4-057B7419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BAD-FBA3-4ED4-9581-E5B4DB4C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0F7-F86B-44AE-AB1C-8142C49A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483-84C6-4675-BFF1-844A45A0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DFB-1FF3-4C65-9A8F-7F3985F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B83-0CB9-4631-92F4-CB52E08A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4D4-45D6-4794-AEA7-630013FB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3AB4-102F-4B53-9CA8-5C26DD78B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Part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238880" y="2924280"/>
            <a:ext cx="1905120" cy="371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755640" y="1125360"/>
            <a:ext cx="727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e-1840 Maori/Pakeha Relation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travellers often ill-treated on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aw British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European travellers and sojou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wh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keha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ori women/w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4621320"/>
            <a:ext cx="4044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s seen as good for 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rived from presence of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ori control over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cess to Europeans’ trade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10 Maori scrambled for mus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ket wars spread in 1820s-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Maori migration to avoid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destruction than traditional 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ket did not respect 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weapons still used dense bush and hand-to-hand f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164360" y="71280"/>
            <a:ext cx="178272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gi H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a Pu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at of Nga Puhi by Ngati Whaua in 1810 gave Hongi Hika desire for u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ght European contact from 18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major leader to use mus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laves to cultivate potatos to trade for mus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0 traded gifts from England for muskets in Syd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1-23 led many campaigns until death in 18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 Raupara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ati Toa and Ngati Raukawa De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tanding leader of hi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ened by Waikato tribes in late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arly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d from Hauraki Gulf to Taranaki and Cook Str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819 was using mus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20 under pressure from Waikato, left migration to Taranaki and then Kap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 Rauparaha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base in Kap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slavs to build flax plantations and traded with Europeans for mus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t. 1827 began series of raids on South Island to gain Poun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0s consolidated hold on central North Island, southern North Island and northern South Is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Balance of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 all tribes had mus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830s new balance of tribal power based on muskets rather than traditional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continued through 1830s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ion less than during 182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Graham Langton, (2005) Pre-1840 Maori/Pakeha Relatio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ar 13 – New Zealand in the 19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Auckland: ESA Publications. pp.43-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Infl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keha attitudes of supe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d difference between societies and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onomics: exchange, trade and 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choices about interaction and relationship with Pakeha were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European presence after 183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80000" y="3341520"/>
            <a:ext cx="3564000" cy="3516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ace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urocentric: Europeans considered other races inferi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Balanced: Modern 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utual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limited, h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influe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from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44720" cy="24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Culture Conta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558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Cook 1769-1777 – barter and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ried force at times but that worked against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visits were ir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led to competition amongst Maori for European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227640" y="5073480"/>
            <a:ext cx="27180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conta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akeha escaped convicts and runaway sai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ney entrepreneurs and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requent after 1800 – whalers &amp; sealers &amp; 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visited Sydney after 1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aries and trade after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48436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willing to adopt and ada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attitudes depended on intentions of vi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interaction on ships or going overseas – sudden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interaction by Maori or Maori-Pakeha which led to more controlled change and easier to cope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, women, labour, artifacts, knowledge, NZ travel, protection,timber, flax,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, muskets, boats, overseas travel, new crops, clothing, alcohol, tobaccao,literacy,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84720" y="36360"/>
            <a:ext cx="3059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and Nego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 and change involved Choice and 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:- because of strength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confidence in their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:- assumption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ity and profit mo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8880" y="3146400"/>
            <a:ext cx="1905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: 1800-18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visitors and Pakeha assumed dominance of their ow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 Maori dominant up until 184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utnumbered Pakeha until 18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for dominance led to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for trade contro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ssion on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299360" y="3933720"/>
            <a:ext cx="1844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2:21:29Z</dcterms:created>
  <dc:creator>schoolhistory.co.nz</dc:creator>
  <dc:description/>
  <dc:language>en-US</dc:language>
  <cp:lastModifiedBy>isea.co.nz</cp:lastModifiedBy>
  <dcterms:modified xsi:type="dcterms:W3CDTF">2009-07-29T04:00:26Z</dcterms:modified>
  <cp:revision>7</cp:revision>
  <dc:subject/>
  <dc:title>Pre-1840 Maori/Pakeha Relations</dc:title>
</cp:coreProperties>
</file>