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9C8-2CB9-48C3-8218-EE2D9D96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1BC-A25C-495A-9FDE-343C6F78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675-D798-4686-8B5B-FB78132F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F81-CAF3-413B-B650-1D10ED6B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3CB-053F-435E-A76E-68980320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327-9E8E-401D-B065-DCE596CB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7CD-35F2-411C-8059-0DF115C3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921-17EC-4F07-82FB-29CC343C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DC8-46F9-45A0-B819-D84F75E8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CBF-8DB5-4CBC-8F3C-4E581D69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CAF-A339-46BC-9269-91B6FD2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132-964D-4210-8F76-C094A7F8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F132-23C4-496B-BD19-87939F74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zhistory.net.nz/files/images/stories/treaty/tw-045.jpg&amp;imgrefurl=http://www.nzhistory.net.nz/media/photo/thomas-kendall-hongi-hika-waikato-painting&amp;usg=__sIUYktPHy1wKwkC4AB8y4kyeeYc=&amp;h=389&amp;w=500&amp;sz=149&amp;hl=en&amp;start=2&amp;sig2=HGuhvYP1ghsDN-TmBugh8Q&amp;um=1&amp;tbnid=F9uc8otiHFgdEM:&amp;tbnh=101&amp;tbnw=130&amp;prev=/images%3Fq%3Dthomas%2Bkendall%2Bzealand%26hl%3Den%26lr%3D%26um%3D1&amp;ei=quRvSobcLpaMkAWs3LHqBA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eske-style.co.nz/images/Thomas%2520Kendall.jpg&amp;imgrefurl=http://www.eske-style.co.nz/nzhistory.asp&amp;usg=__hepOINIoEzu5X5j7-FrsVc01vpk=&amp;h=317&amp;w=285&amp;sz=27&amp;hl=en&amp;start=3&amp;sig2=ocbaJLM9x_tOFt3qj2StQQ&amp;um=1&amp;tbnid=0jyV8JovDyfTxM:&amp;tbnh=118&amp;tbnw=106&amp;prev=/images%3Fq%3Dthomas%2Bkendall%2Bzealand%26hl%3Den%26lr%3D%26um%3D1&amp;ei=quRvSobcLpaMkAWs3LHqBA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476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o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ishop Pompallier from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18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 established at Kororare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mpallier tall and had impact and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rnt English and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velled exten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o late to have much influence as Maori turned away from Christianity in 18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24680" y="0"/>
            <a:ext cx="21193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r in 183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 of acculturation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and Pakeha more dependent on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Z became closer to Britain and outsid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51280" y="3827520"/>
            <a:ext cx="5292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ri became more afflicted with European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ri began to adopt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up alcohol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number of Europeans-2000 by 1840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raction in North of North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hips visiting (Bay of Islands had 24 per year in 1820s to 137 per year between 1834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direct contact away from northern North Island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ori and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30s - thousands of Maori accepted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ori saw no conflict between accepting Christianity and continuing traditional formds of religiou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st conversion from Maori evangelists rather than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rst Maori conversions we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30s most missionaries spoke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Williams had translated whole of New Testament to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yer book translated by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nso printed first Maori new Testaments Dec.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word gave Maori access to European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17622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ori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esire for links with pakeha and access to goods such as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s of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of Maori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European 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aries offered way of coping with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ective missiona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uri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ending war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 of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ceptance of western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d not turn Maori into ‘brown Europeans’ over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stimulated by biblical ideas but still held to traditional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identified with Jews but also saw Jesus as offering hope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acquired was of Te Reo but Maori also began to need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adapted christianity  -’adjustment cult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apahuri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Ngai tahu tohunga developed Maori religious movement in 1830s based on Maori beliefs and biblical teac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ame of god worshiped was Papahuri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llowers called Hurai (J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served Sabbath on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posed Protestant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iremu Tamih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f Ngati Haua and a Maori lea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fluenced by a CMS miss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0s- directed his tribe towards Christia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d mana of his father and own d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w Christian god as more powerful than Maori Atua – agreed with coex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tablished new christian village – Te Tapiri and P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40s also lead people in establishing farming, teaching and maintaining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99360" y="0"/>
            <a:ext cx="1844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183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uropean settlement had more impact on Maori relations in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y late 1830s most Maori impacted by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encouraged Maori to look to Britain as their pro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1826 a British naval ship visited from NSW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developed power because of faith and were seen as represenatives of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ere more important than other Europeans in race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eded cooperation of Maori as did other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ually Missionaries came to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y sought to change Maori life and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umanitarian and missionary organisations influenced governemnt policy in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ttempts to convert ‘heathens’ were part of overall Christian renewal in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973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ish Represen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sby appointed 1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itangi Maori gathering 1834 Busby asked chiefs to select a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8 Oct 1825 Busby encouraged chiefs to sign a Declaration of Indepen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tish governemnt recognised Declaration and independence of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tection extended to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by’s 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ibal rivalry, competi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ability to introuce Brit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y more steps would have to be more formal before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nge of British view from one that accomodated Europeans in NZ to one that accomodated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88280" y="0"/>
            <a:ext cx="2655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wless Europeans in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tual dependence broken do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reased numbers of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still wanted more trade and access to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wanted to protect Maori from Law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tish traders petitioned for more control and enforce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agerated reports of unrest sent to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MS agitated for British control to protect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ish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7 Busby suggetsed a British protectorate for 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7 Hobson suggetsed not a full takeover but more involvment and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tish government considered a charter but idea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uine concerns for Maori but no idea of how to protect them from unscrupulous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willing to expend money on an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cators Influencing Increased British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ench and US becoming more interested in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honky land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Z Company sought to establish colonies whether Britain involved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tish governemnt changed in 1839 and so new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Tor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’ left in 1839 follow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 6 emigrant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ttlement of Wellington by the New Zealand Company. Clayton, Mathew Thomas 1831 to 1922."/>
          <p:cNvPicPr/>
          <p:nvPr/>
        </p:nvPicPr>
        <p:blipFill>
          <a:blip r:embed="rId2"/>
          <a:stretch/>
        </p:blipFill>
        <p:spPr>
          <a:xfrm>
            <a:off x="6012000" y="4562640"/>
            <a:ext cx="313200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638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government dec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ormal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sultation with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-August 1839 Limited intervention decided upon to control settlers and protect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needed as Britain had already accepted Maori sovereignty and independence under the Declaration of Independence in 183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189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 Graham Langton, (2005) Pre-1840 Maori/Pakeha Relations in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Year 13 – New Zealand in the 19</a:t>
            </a:r>
            <a:r>
              <a:rPr b="0" i="1" lang="en-AU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 Auckland: ESA Publications. pp.55-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549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Church Missi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14 Marsden brought lay missionaries to Rangihoua in Bay of Is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encourage a spirit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rough trade bring Maori to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pected to set moral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t usually interested in trying to understand Maori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33960" y="0"/>
            <a:ext cx="4010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9730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ssiona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 poor condition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d on Maori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ted by local Maori to star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d little as missionaries of Christian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added to existing interaction between Maori and Pake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enominational rivalry puzzled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uel Mars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haplain, magistrat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ndowner in N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 a number of Maori inclu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 Pahi (1805) in 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sidered Maori potential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07 asked Church Missionary Society to sponsor mission to 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came Society’s chief agent in South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Z delayed until 1814 – Boyd in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sited NZ 7 times to keep missions 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08800" y="0"/>
            <a:ext cx="26352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Kend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veloped some knowledge of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16-18 school at Rangihoua but it failed through lack of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20 publisheda grammar ofNZ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ied to understand Maori concepts and sy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angelical, temper, sense of sin – fell out with other mission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d a sexual liaison with a Maori servant and former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27720" y="0"/>
            <a:ext cx="1916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 Henry Willi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23 arrived in Bay of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fluenced CMS and its 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th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30s missionaries  all around North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-naval officer and strong leader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quired mana for himself and mission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59720" y="476280"/>
            <a:ext cx="2384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 Henry William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lliams related well to Maori leaders and was not intimidated b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d spiritual teaching rather than civilisation to con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-established schooling for Maori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duced missionaries  involvment i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couraged missionaries to speak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enom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eslyans at head of Whangaroa Harbour 1823-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itially Maori dominated Weslyans insisting on trade rather than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ssion sacked 1827 – weslyan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built Mangungu at Hokianga under protection of Patuone and Waka N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10:49Z</dcterms:created>
  <dc:creator>isea.co.nz</dc:creator>
  <dc:description/>
  <dc:language>en-US</dc:language>
  <cp:lastModifiedBy>John Pipe</cp:lastModifiedBy>
  <dcterms:modified xsi:type="dcterms:W3CDTF">2010-02-23T08:45:47Z</dcterms:modified>
  <cp:revision>12</cp:revision>
  <dc:subject/>
  <dc:title>Slide 1</dc:title>
</cp:coreProperties>
</file>