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EE08-8524-4396-AD09-F9EBA843D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F38-F5A2-439E-B701-D0042D00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450B-62FF-4727-8A3B-12FF97AC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65F-38D9-4282-AA73-0B28A21B8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1007-FC9B-40EE-8A43-FBCD4940F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D006-9F6E-4484-8383-2F0C7B30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110-B7EB-4D56-A533-58B24A88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3DF-6D9F-4358-8BE6-CA605377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E555-8396-4FE4-997A-3D713829D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8F35-1B14-4613-8E50-2523FD75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8E89-CBF2-42C7-9860-56517DF8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117B-56AE-4EAC-B624-B6CA587BB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35CD8-D3BA-4D85-829A-921816366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nzhistory.net.nz/files/images/stories/treaty/tw-045.jpg&amp;imgrefurl=http://www.nzhistory.net.nz/media/photo/thomas-kendall-hongi-hika-waikato-painting&amp;usg=__sIUYktPHy1wKwkC4AB8y4kyeeYc=&amp;h=389&amp;w=500&amp;sz=149&amp;hl=en&amp;start=2&amp;sig2=HGuhvYP1ghsDN-TmBugh8Q&amp;um=1&amp;tbnid=F9uc8otiHFgdEM:&amp;tbnh=101&amp;tbnw=130&amp;prev=/images%3Fq%3Dthomas%2Bkendall%2Bzealand%26hl%3Den%26lr%3D%26um%3D1&amp;ei=quRvSobcLpaMkAWs3LHqBA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om/imgres?imgurl=http://www.eske-style.co.nz/images/Thomas%2520Kendall.jpg&amp;imgrefurl=http://www.eske-style.co.nz/nzhistory.asp&amp;usg=__hepOINIoEzu5X5j7-FrsVc01vpk=&amp;h=317&amp;w=285&amp;sz=27&amp;hl=en&amp;start=3&amp;sig2=ocbaJLM9x_tOFt3qj2StQQ&amp;um=1&amp;tbnid=0jyV8JovDyfTxM:&amp;tbnh=118&amp;tbnw=106&amp;prev=/images%3Fq%3Dthomas%2Bkendall%2Bzealand%26hl%3Den%26lr%3D%26um%3D1&amp;ei=quRvSobcLpaMkAWs3LHqBA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547640" y="3212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Par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hol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ishop Pompallier from Fr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 18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 established at Kororare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ompallier tall and had impact and pres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rnt English and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avelled extens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o late to have much influence as Maori turned away from Christianity in 184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7024680" y="0"/>
            <a:ext cx="2119320" cy="31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oser in 183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ce of acculturation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ori and Pakeha more dependent on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Z became closer to Britain and outsid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3851280" y="3827520"/>
            <a:ext cx="529272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ultur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ri became more afflicted with European dise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ori began to adopt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k up alcohol and tobac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number of Europeans-2000 by 1840 appr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teraction in North of North Is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ships visiting (Bay of Islands had 24 per year in 1820s to 137 per year between 1834-2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indirect contact away from northern North Island</a:t>
            </a:r>
            <a:br>
              <a:rPr sz="28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ori and Christian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30s - thousands of Maori accepted Christia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aori saw no conflict between accepting Christianity and continuing traditional formds of religious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ost conversion from Maori evangelists rather than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irst Maori conversions were sl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p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d-1830s most missionaries spoke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 Williams had translated whole of New Testament to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yer book translated by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enso printed first Maori new Testaments Dec. 18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ten word gave Maori access to European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164360" y="4005360"/>
            <a:ext cx="17622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ori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desire for links with pakeha and access to goods such as a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ations of Christia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ations of Maori teac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to European 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sionaries offered way of coping with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effective missiona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lectual curios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of ending war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l of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cceptance of western dom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ture of Conve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id not turn Maori into ‘brown Europeans’ overn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stimulated by biblical ideas but still held to traditional belie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identified with Jews but also saw Jesus as offering hope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iteracy acquired was of Te Reo but Maori also began to need Englis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adapted christianity  -’adjustment cults’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apahurih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 Ngai tahu tohunga developed Maori religious movement in 1830s based on Maori beliefs and biblical teach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ame of god worshiped was Papahurih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llowers called Hurai (J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bserved Sabbath on Satur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pposed Protestant mission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Wiremu Tamih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f Ngati Haua and a Maori lea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fluenced by a CMS miss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0s- directed his tribe towards Christian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d mana of his father and own d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aw Christian god as more powerful than Maori Atua – agreed with coex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stablished new christian village – Te Tapiri and P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40s also lead people in establishing farming, teaching and maintaining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7299360" y="0"/>
            <a:ext cx="184464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e 1830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uropean settlement had more impact on Maori relations in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y late 1830s most Maori impacted by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encouraged Maori to look to Britain as their prot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1826 a British naval ship visited from NSW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developed power because of faith and were seen as represenatives of Brit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ere more important than other Europeans in race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eded cooperation of Maori as did others, b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ually Missionaries came to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y sought to change Maori life and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umanitarian and missionary organisations influenced governemnt policy in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ttempts to convert ‘heathens’ were part of overall Christian renewal in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9730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ish Represent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usby appointed 18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itangi Maori gathering 1834 Busby asked chiefs to select a 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8 Oct 1825 Busby encouraged chiefs to sign a Declaration of Indepen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tish governemnt recognised Declaration and independence of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otection extended to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867280" y="0"/>
            <a:ext cx="327672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by’s Fail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ribal rivalry, competition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ability to introuce Britis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y more steps would have to be more formal before 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hange of British view from one that accomodated Europeans in NZ to one that accomodated Maor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88280" y="0"/>
            <a:ext cx="265572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wless Europeans in Nor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utual dependence broken down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ncreased numbers of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ori still wanted more trade and access to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issionaries wanted to protect Maori from Lawless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tish traders petitioned for more control and enforce pe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agerated reports of unrest sent to Bri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MS agitated for British control to protect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659640" y="0"/>
            <a:ext cx="2484360" cy="24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itish 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7 Busby suggetsed a British protectorate for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37 Hobson suggetsed not a full takeover but more involvment and negot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ritish government considered a charter but idea rej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uine concerns for Maori but no idea of how to protect them from unscrupulous Europe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nwilling to expend money on any invol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Fcators Influencing Increased British Involv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rench and US becoming more interested in N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honky land de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NZ Company sought to establish colonies whether Britain involved or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ritish governemnt changed in 1839 and so new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To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’ left in 1839 follow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y 6 emigrant 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Settlement of Wellington by the New Zealand Company. Clayton, Mathew Thomas 1831 to 1922."/>
          <p:cNvPicPr/>
          <p:nvPr/>
        </p:nvPicPr>
        <p:blipFill>
          <a:blip r:embed="rId2"/>
          <a:stretch/>
        </p:blipFill>
        <p:spPr>
          <a:xfrm>
            <a:off x="6012000" y="4562640"/>
            <a:ext cx="3132000" cy="22953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638172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tish government deci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formal inter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onsultation with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ly-August 1839 Limited intervention decided upon to control settlers and protect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aty needed as Britain had already accepted Maori sovereignty and independence under the Declaration of Independence in 183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34120" y="189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ased on  Graham Langton, (2005) Pre-1840 Maori/Pakeha Relations in 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Year 13 – New Zealand in the 19</a:t>
            </a:r>
            <a:r>
              <a:rPr b="0" i="1" lang="en-AU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 Century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. Auckland: ESA Publications. pp.55-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4944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Miss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rom Church Missiona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14 Marsden brought lay missionaries to Rangihoua in Bay of Isla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o encourage a spirit of tr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rough trade bring Maori to Christia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xpected to set moral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t usually interested in trying to understand Maori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133960" y="0"/>
            <a:ext cx="4010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9730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ly Missionarie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ly poor conditions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ied on Maori to surv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minated by local Maori to start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hieved little as missionaries of Christian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ce added to existing interaction between Maori and Pake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denominational rivalry puzzled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867280" y="0"/>
            <a:ext cx="3276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uel Mars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 Chaplain, magistrate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andowner in N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t a number of Maori inclu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e Pahi (1805) in Sydn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sidered Maori potential Christ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07 asked Church Missionary Society to sponsor mission to N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Became Society’s chief agent in South pacif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Z delayed until 1814 – Boyd in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isited NZ 7 times to keep missions go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508800" y="0"/>
            <a:ext cx="26352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omas Kend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veloped some knowledge of Ma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16-18 school at Rangihoua but it failed through lack of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1820 publisheda grammar ofNZ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ried to understand Maori concepts and symbo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vangelical, temper, sense of sin – fell out with other missionar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Had a sexual liaison with a Maori servant and former pup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227720" y="0"/>
            <a:ext cx="1916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80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 Henry Willi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23 arrived in Bay of Is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fluenced CMS and its 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th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830s missionaries  all around North Is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-naval officer and strong leader and e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quired mana for himself and missiona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759720" y="476280"/>
            <a:ext cx="23842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 Henry Williams cont’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illiams related well to Maori leaders and was not intimidated by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Used spiritual teaching rather than civilisation to conv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-established schooling for Maori child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duced missionaries  involvment in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ncouraged missionaries to speak Ma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Denomin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eslyans at head of Whangaroa Harbour 1823-2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itially Maori dominated Weslyans insisting on trade rather than teac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ission sacked 1827 – weslyans f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built Mangungu at Hokianga under protection of Patuone and Waka N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9T04:10:49Z</dcterms:created>
  <dc:creator>isea.co.nz</dc:creator>
  <dc:description/>
  <dc:language>en-US</dc:language>
  <cp:lastModifiedBy>John Pipe</cp:lastModifiedBy>
  <dcterms:modified xsi:type="dcterms:W3CDTF">2010-02-23T08:45:47Z</dcterms:modified>
  <cp:revision>12</cp:revision>
  <dc:subject/>
  <dc:title>Slide 1</dc:title>
</cp:coreProperties>
</file>