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4F3E-9BFE-4835-931F-64598B941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04BD-F9B5-4C18-84B5-14CE34107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3FBE-3FD4-4BBB-9D11-AF3282E1B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9A2C-EDFB-474A-ADC7-78AB98A7D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7F78-90FA-44C7-900E-A9A58D6CD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8707-F9C3-4EDA-BBD7-176C927F2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B60C-0419-4DAF-BE23-2CEF6A69A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3C4E-D43F-49D5-A9AB-873200AE2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66ED-CDCF-4A00-913E-8B0B5F082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EA15-FEBD-4EF5-8F84-1E23F5533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80F2-F65D-41F3-ACB3-DB2B8BCCA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69F3-69BA-48BF-A2EC-AC3D90E1A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69D17-387A-4162-AEF4-DF33F22308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nzhistory.net.nz/files/images/stories/treaty/tw-045.jpg&amp;imgrefurl=http://www.nzhistory.net.nz/media/photo/thomas-kendall-hongi-hika-waikato-painting&amp;usg=__sIUYktPHy1wKwkC4AB8y4kyeeYc=&amp;h=389&amp;w=500&amp;sz=149&amp;hl=en&amp;start=2&amp;sig2=HGuhvYP1ghsDN-TmBugh8Q&amp;um=1&amp;tbnid=F9uc8otiHFgdEM:&amp;tbnh=101&amp;tbnw=130&amp;prev=/images%3Fq%3Dthomas%2Bkendall%2Bzealand%26hl%3Den%26lr%3D%26um%3D1&amp;ei=quRvSobcLpaMkAWs3LHqBA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eske-style.co.nz/images/Thomas%2520Kendall.jpg&amp;imgrefurl=http://www.eske-style.co.nz/nzhistory.asp&amp;usg=__hepOINIoEzu5X5j7-FrsVc01vpk=&amp;h=317&amp;w=285&amp;sz=27&amp;hl=en&amp;start=3&amp;sig2=ocbaJLM9x_tOFt3qj2StQQ&amp;um=1&amp;tbnid=0jyV8JovDyfTxM:&amp;tbnh=118&amp;tbnw=106&amp;prev=/images%3Fq%3Dthomas%2Bkendall%2Bzealand%26hl%3Den%26lr%3D%26um%3D1&amp;ei=quRvSobcLpaMkAWs3LHqBA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547640" y="3212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Part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thol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Bishop Pompallier from Fra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n 18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Mission established at Kororare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Pompallier tall and had impact and pres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Lernt English and Mao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ravelled extensiv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oo late to have much influence as Maori turned away from Christianity in 184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7024680" y="0"/>
            <a:ext cx="211932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oser in 1830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ce of acculturation incr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ori and Pakeha more dependent on each 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Z became closer to Britain and outsid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851280" y="3827520"/>
            <a:ext cx="529272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ultu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ori became more afflicted with European dis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ori began to adopt Christia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k up alcohol and tobac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number of Europeans-2000 by 1840 appr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teraction in North of North Is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ships visiting (Bay of Islands had 24 per year in 1820s to 137 per year between 1834-2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indirect contact away from northern North Island</a:t>
            </a:r>
            <a:br>
              <a:rPr sz="28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ori and Christia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1830s - thousands of Maori accepted Christia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Maori saw no conflict between accepting Christianity and continuing traditional formds of religious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Most conversion from Maori evangelists rather than mission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First Maori conversions were sl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p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-1830s most missionaries spoke Ma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iam Williams had translated whole of New Testament to Ma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Prayer book translated by 183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enso printed first Maori new Testaments Dec. 183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ten word gave Maori access to European know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7164360" y="4005360"/>
            <a:ext cx="176220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ori Con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desire for links with pakeha and access to goods such as a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ations of Christia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pretations of Maori tea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 to European 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sionaries offered way of coping with dis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effective missionary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lectual curio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s of ending warf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eal of lite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acceptance of western domi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ure of Con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Did not turn Maori into ‘brown Europeans’ overn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Maori stimulated by biblical ideas but still held to traditional belie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Maori identified with Jews but also saw Jesus as offering hope for the fu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Literacy acquired was of Te Reo but Maori also began to need Englis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Maori adapted christianity  -’adjustment cults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Papahurih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A Ngai tahu tohunga developed Maori religious movement in 1830s based on Maori beliefs and biblical teac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Name of god worshiped was Papahurih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Followers called Hurai (Jew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Observed Sabbath on Satur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Opposed Protestant mission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Wiremu Tamih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Of Ngati Haua and a Maori lead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nfluenced by a CMS mission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1830s- directed his tribe towards Christian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Had mana of his father and own d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aw Christian god as more powerful than Maori Atua – agreed with coex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Established new christian village – Te Tapiri and P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1840s also lead people in establishing farming, teaching and maintaining jus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7299360" y="0"/>
            <a:ext cx="184464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te 1830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European settlement had more impact on Maori relations in No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By late 1830s most Maori impacted by Europe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Missionaries encouraged Maori to look to Britain as their prot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From 1826 a British naval ship visited from NSW regula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Missionaries developed power because of faith and were seen as represenatives of Brit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Were more important than other Europeans in race re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Needed cooperation of Maori as did others, b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Usually Missionaries came to st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y sought to change Maori life and soci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Humanitarian and missionary organisations influenced governemnt policy in Brit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Attempts to convert ‘heathens’ were part of overall Christian renewal in Brit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9730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itish Representa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Busby appointed 18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Waitangi Maori gathering 1834 Busby asked chiefs to select a fl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28 Oct 1825 Busby encouraged chiefs to sign a Declaration of Independe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British governemnt recognised Declaration and independence of Ma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Protection extended to Ma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867280" y="0"/>
            <a:ext cx="327672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sby’s Fail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ribal rivalry, competi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Inability to introuce Britis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Any more steps would have to be more formal before settl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hange of British view from one that accomodated Europeans in NZ to one that accomodated Maor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488280" y="0"/>
            <a:ext cx="265572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Lawless Europeans in No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Mutual dependence broken down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ncreased numbers of Europe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Maori still wanted more trade and access to Europe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Missionaries wanted to protect Maori from Lawless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British traders petitioned for more control and enforce pe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Exagerated reports of unrest sent to Brit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MS agitated for British control to protect Mao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659640" y="0"/>
            <a:ext cx="248436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itish 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1837 Busby suggetsed a British protectorate for N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1837 Hobson suggetsed not a full takeover but more involvment and negot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British government considered a charter but idea rej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Genuine concerns for Maori but no idea of how to protect them from unscrupulous Europe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Unwilling to expend money on any invol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Fcators Influencing Increased British Involv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French and US becoming more interested in N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Shonky land de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NZ Company sought to establish colonies whether Britain involved or 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British governemnt changed in 1839 and so new 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i="1" lang="en-AU" sz="3200" spc="-1" strike="noStrike">
                <a:solidFill>
                  <a:srgbClr val="000000"/>
                </a:solidFill>
                <a:latin typeface="Arial"/>
              </a:rPr>
              <a:t>Tory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’ left in 1839 follow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by 6 emigrant 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Settlement of Wellington by the New Zealand Company. Clayton, Mathew Thomas 1831 to 1922."/>
          <p:cNvPicPr/>
          <p:nvPr/>
        </p:nvPicPr>
        <p:blipFill>
          <a:blip r:embed="rId2"/>
          <a:stretch/>
        </p:blipFill>
        <p:spPr>
          <a:xfrm>
            <a:off x="6012000" y="4562640"/>
            <a:ext cx="3132000" cy="22953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284720" y="638172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49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tish government decid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formal interv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consultation with Mao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ly-August 1839 Limited intervention decided upon to control settlers and protect Mao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aty needed as Britain had already accepted Maori sovereignty and independence under the Declaration of Independence in 183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334120" y="18900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Based on  Graham Langton, (2005) Pre-1840 Maori/Pakeha Relations in </a:t>
            </a:r>
            <a:r>
              <a:rPr b="0" i="1" lang="en-AU" sz="3200" spc="-1" strike="noStrike">
                <a:solidFill>
                  <a:srgbClr val="000000"/>
                </a:solidFill>
                <a:latin typeface="Arial"/>
              </a:rPr>
              <a:t>Year 13 – New Zealand in the 19</a:t>
            </a:r>
            <a:r>
              <a:rPr b="0" i="1" lang="en-AU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AU" sz="3200" spc="-1" strike="noStrike">
                <a:solidFill>
                  <a:srgbClr val="000000"/>
                </a:solidFill>
                <a:latin typeface="Arial"/>
              </a:rPr>
              <a:t> Century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. Auckland: ESA Publications. pp.55-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15494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Mission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From Church Missiona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oci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1814 Marsden brought lay missionaries to Rangihoua in Bay of Isla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o encourage a spirit of t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rough trade bring Maori to Christia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Expected to set moral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Not usually interested in trying to understand Maori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133960" y="0"/>
            <a:ext cx="401004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9730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rly Missionaries cont’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ly poor conditions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ied on Maori to surv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minated by local Maori to start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hieved little as missionaries of Christian fa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ce added to existing interaction between Maori and Pake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denominational rivalry puzzled Ma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867280" y="0"/>
            <a:ext cx="3276720" cy="25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uel Mars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A Chaplain, magistrate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landowner in NS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Met a number of Maori includ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e Pahi (1805) in Syd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onsidered Maori potential Christi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1807 asked Church Missionary Society to sponsor mission to N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Became Society’s chief agent in South paci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NZ delayed until 1814 – Boyd inci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Visited NZ 7 times to keep missions go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508800" y="0"/>
            <a:ext cx="2635200" cy="28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omas Kend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Developed some knowledge of Mao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1816-18 school at Rangihoua but it failed through lack of supp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1820 publisheda grammar ofNZ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ried to understand Maori concepts and symbo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Evangelical, temper, sense of sin – fell out with other missiona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Had a sexual liaison with a Maori servant and former pup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227720" y="0"/>
            <a:ext cx="19162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 Henry Willi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1823 arrived in Bay of Is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Influenced CMS and its 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with Ma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1830s missionaries  all around North Is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Ex-naval officer and strong leader and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Aquired mana for himself and missionar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759720" y="476280"/>
            <a:ext cx="238428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 Henry Williams cont’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Williams related well to Maori leaders and was not intimidated by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Used spiritual teaching rather than civilisation to conve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Re-established schooling for Maori child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Reduced missionaries  involvment in t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Encouraged missionaries to speak Ma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Denomin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Weslyans at head of Whangaroa Harbour 1823-2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Initially Maori dominated Weslyans insisting on trade rather than tea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Mission sacked 1827 – weslyans f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Rebuilt Mangungu at Hokianga under protection of Patuone and Waka N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9T04:10:49Z</dcterms:created>
  <dc:creator>isea.co.nz</dc:creator>
  <dc:description/>
  <dc:language>en-US</dc:language>
  <cp:lastModifiedBy>John Pipe</cp:lastModifiedBy>
  <dcterms:modified xsi:type="dcterms:W3CDTF">2010-02-23T08:45:47Z</dcterms:modified>
  <cp:revision>12</cp:revision>
  <dc:subject/>
  <dc:title>Slide 1</dc:title>
</cp:coreProperties>
</file>